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968-8A3E-4C72-B87F-61900D2D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B24-D89D-4C5B-8C4A-9768B064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A3D-9AED-4943-BBE5-13BCA9E0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8FA-E0C6-44EF-8D66-29D3B885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C99-38AB-4CED-9AAD-E5660277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871-76C2-4097-A983-970B55C2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2CF-DBF1-42CE-8B0B-FB57E596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9A8-532D-48E9-862D-60B163B5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4DB-A57F-4A76-8131-16656A2F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A43-FF01-43BE-8FAE-2BC67E1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737-EE96-48DB-A71A-AB437584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93A-D36A-4D50-8CCE-5B635B33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4F10-CBA8-4273-B212-2872F2A602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ervices, Housing and Neighbourho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len Bramley &amp; Kirsten Besemer 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Heriot-Watt Univers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essential are local public &amp; private servic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anges in use of services, and constraints, since 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rvice exclusion and inadequa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services alleviate or exacerbate poverty and exclus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articular rise in housing-related deprivations since 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ing needs, including homelessness,  and pover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or particularly likely to experience common neighbourhoo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700360" y="56815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ttish Government Seminar – August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Scotland &amp;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rvice exclusion and other dimensions of dis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table shows the extent to which people deprived in each domain of BSEM are likely to have multiple deprivations across other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rvices stand out for th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low level of overla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with multiple depr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though there is some correlation with poverty, this is less than with other domains, suggesting services can play a compensatory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4640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using Depri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ing deprivations counted within the PSE deprivation index have all deteriorated markedly since 1999, particularly ‘heating to keep home adequately warm’ (up from 3% to 9%), damp free home (7% to 10%), enough bedrooms for children (7% to 9%) and ability to keep home decently decorated (15% to 2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80647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using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ther housing-related problems have deteriorated, including having five or more physical accommodation problems, and particularly affordability-related problems such as being in debt for rent or mortgage or utility bills, or having to cut down on gas or electri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land slightly better than G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4593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using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781200" y="1571760"/>
            <a:ext cx="7581600" cy="371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83720" y="5443560"/>
            <a:ext cx="76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 all countries of UK, there is a strong relationship between housing needs and pov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y Increased Housing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ery big real increase in energy costs in 2000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ig hike in house prices, only partially reversed &amp; offset by low interest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ssive increase in private rented housing, where rents are higher and security is limited (including many families n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mographic pressure set against low supply (even before, but especially during, the reces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st 3 factors all more pronounced in London/South, less in Scot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, Affordability &amp; Household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1"/>
          <a:stretch/>
        </p:blipFill>
        <p:spPr>
          <a:xfrm>
            <a:off x="781200" y="1574640"/>
            <a:ext cx="7581600" cy="3714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420480" y="5443560"/>
            <a:ext cx="862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amilies saw increase in affordability pressures &amp; poverty, despite fall in BHC poverty ris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ing age saw big rise in BHC poverty risk + affordy pressures, and greatest increase in pov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nsioners saw big reduction in BHC and AHC poverty risk and in PSE poverty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nure analysis suggests that much greater number of families in private renting is a key fac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meles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72400" cy="4029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60240" y="5516640"/>
            <a:ext cx="78663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ospective questions about experiences of homelessness provide valuable new way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ing homelessness.  2.1% have experienced this in the last five years in Eng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lying over 200,000 cases per year.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tes in Scotland almost as hig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o experienced homelessn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nger ages (implying rising risk over tim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ople of Mixed and Black ethnicit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ngle persons and lone parent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ople in current material depr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ople living in a deprived neighbourhood or an urban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mon Neighbourhood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81200" y="1643040"/>
            <a:ext cx="7581600" cy="3571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719280" y="5443560"/>
            <a:ext cx="695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erns about neighbourhood environmental or social problems are comm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re so in Scotlan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‘score’ – proportion of maximum possible mentions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‘areadep2’ = having 3 or more out of 16 problems, or being very dissatisfied with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eighbourhood problems by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95280" y="1731960"/>
            <a:ext cx="83534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re Local Public Services ‘Essential’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re people see a number of public services as ‘essential’ in 2012 than in 1999, including libraries, sports, museums/galleries, dentis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was a fall for evening classes, public/community halls and post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cotla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enerally higher, increased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74880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oblem pr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71480" y="1571760"/>
            <a:ext cx="7601040" cy="37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424080" y="5443560"/>
            <a:ext cx="856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ighbourhood problems, particularly social/disorder problems, are much more prevalent in urba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amp; ‘poor’ areas, and are experienced much more by poor househol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 this respect, again, it is worse to be poor in a poor are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hanges in Use of Universa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4135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78720" y="5684760"/>
            <a:ext cx="779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age of a range of general/universal public services has declined since 1999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ue to a mixture of changes in technology/preferences and reduced availability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or adequacy. However, public transport and corner shops saw big increas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hildren’s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51520" y="5324400"/>
            <a:ext cx="6845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all cases there has been a sizeable increase in the propor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reporting use and adequacy.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is reflects government investment in fuller preschool provision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blic realm and other services during 2000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vertheless availability/adequacy shortfalls remain – play, ASC, Y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647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hool Problem Indic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81200" y="1571760"/>
            <a:ext cx="7823160" cy="3832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68640" y="5516640"/>
            <a:ext cx="861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chool resource problems reduced considerably between 1999 and 2012, although pupil difficulties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ined at a similar level.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ource problems reported by households not strongly related to poverty, and somewhat higher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in Scotland.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upil difficulties more strongly related to poverty, esp in Scotland and N Ireland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rvice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5329440" cy="5051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2400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76200" y="1555920"/>
            <a:ext cx="2755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 More than 20% of households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wishing to use 14/28 services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erience constraints of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availability, unaffordability or inadequacy</a:t>
            </a:r>
            <a:br>
              <a:rPr sz="1400"/>
            </a:br>
            <a:br>
              <a:rPr sz="14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se are nearly all publicl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vided services; some are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ing signficantly affected by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t financial cuts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 Constraints increased most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 museums, banks, dentists, opticians, sports, doctors, eve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rvice Exclusion by Poverty and Area Ty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rvice exclusion* is substantially worse for poor househol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 it worse to be poor in a poor area?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ybe: poor households are bit more excluded in poor n’hoods in Scotland, but NSS (p=0.15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 service exclusion worse in rural are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es, service exclusion much more common in rural areas of Scotland, for both poor and other househo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* Wanting to but not using 3+ services because inadequate, unavailable, or unafford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76200" y="1555920"/>
            <a:ext cx="27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4578480" cy="278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4211640" y="3747960"/>
            <a:ext cx="4464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ich services exclude the poor mor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(or give them a poorer service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3916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88160" y="5589720"/>
            <a:ext cx="917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 which poor are much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re likel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to be excluded from include some children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 and some general/universal and some health-related services;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 which poor are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no more likel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to be excluded from include general commercial retail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+ some social care relate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cross the UK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581960" cy="3714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64840" y="5516640"/>
            <a:ext cx="81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ice exclusion appears to be more prevalent in N Ireland and Scotland, and with greater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k facing poor households there as well. Wales appears to show the least difference betwee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or and other households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10:20:34Z</dcterms:created>
  <dc:creator>User</dc:creator>
  <dc:description/>
  <dc:language>en-US</dc:language>
  <cp:lastModifiedBy>User</cp:lastModifiedBy>
  <dcterms:modified xsi:type="dcterms:W3CDTF">2014-08-31T10:21:58Z</dcterms:modified>
  <cp:revision>1</cp:revision>
  <dc:subject/>
  <dc:title>Services, Housing and Neighbourhoods</dc:title>
</cp:coreProperties>
</file>