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3FB11-FE3B-4542-ACB8-1D344DDF300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28636-BEE7-4B37-ABFB-23E54FD19A5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074C0-40CA-49FC-A8E4-5081C94AD36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8BAE0-98A5-4DDE-905C-19591AACA34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s </a:t>
            </a:r>
            <a:r>
              <a:rPr b="1" i="1" lang="en-GB" sz="1200" spc="-1" strike="noStrike">
                <a:solidFill>
                  <a:srgbClr val="000000"/>
                </a:solidFill>
                <a:latin typeface="Calibri"/>
              </a:rPr>
              <a:t>poverty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higher in Scotland and, if so, why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DF403-9D40-4970-B247-BC0F24934A4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A492D-E8CC-4ACE-8270-9B004BC1CE4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AC00B-0BD2-4C4B-8FDE-F760A51B564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SE po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6721F-21AB-49AF-9AEA-D13A10D7553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00FC-FD87-4FD0-87A7-5C412D67FD7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C205D-692B-4602-BA76-EB37F1021DD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30520-3966-4F46-809D-115E84B1A38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BFD31-E371-44CA-B2DC-C1453FF9B46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C5F00-A95F-4F53-AD53-CD9BEDF5D21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5CF8E-3920-4F46-BABD-65FCEEA3E23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794FC-DFBC-4821-AAE9-2EF8AC69DCE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67B6B-9237-4768-B7F9-118F75BC9B3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4ED6D-1150-4850-858E-8F09573C116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30A35-B4CF-488A-9C96-C44FE59A925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48487-715A-4E2B-9C8F-5925104372E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5DDA5-39E8-47CC-9F15-56903E8D658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A6B72-D094-4952-BF9A-5AFFE35EA29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7096-6BF9-42A4-B4F0-03B19EE10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12A8-3DB3-4927-95F4-D55214B5A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32A2-BE0F-44A2-A3A8-5A13B3DD2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9757-BFFF-4D9C-86C5-768C7FBC7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39D9-4F90-4F1E-A1B0-0BA68C7DE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C5C4-140B-4070-9010-FAFB78131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7C80-6B2A-43DF-8A8B-48E377E69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0CD0-B404-413F-A8A8-2A6D27A05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4960-380B-4717-92D0-E0871CF36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F9E7-4651-42B8-9567-9C029808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1C07-CC77-4E35-8582-67804BBC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F215-C49E-42FB-AF63-FEB24F67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E93A7-4336-4103-8D29-004F010DF6F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84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overty in Scotl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640" y="4149720"/>
            <a:ext cx="7632720" cy="148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ick Bailey, Kirsten Besemer, Glen Bramley &amp; Maria Gann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niversity of Glasgow/Heriot-Watt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\\ads\filestore\SPOL\Staff\Poverty &amp; Social Exclusion\Communications - PRels, slides, articles\Logos\ESRC_logos_tcm8-5099\JPG RGB Small with Border.jpg"/>
          <p:cNvPicPr/>
          <p:nvPr/>
        </p:nvPicPr>
        <p:blipFill>
          <a:blip r:embed="rId2"/>
          <a:stretch/>
        </p:blipFill>
        <p:spPr>
          <a:xfrm>
            <a:off x="7596360" y="5605560"/>
            <a:ext cx="1008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2. Poverty in Scotl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privations by contemporary standa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Content Placeholder 3" descr=""/>
          <p:cNvPicPr/>
          <p:nvPr/>
        </p:nvPicPr>
        <p:blipFill>
          <a:blip r:embed="rId1"/>
          <a:stretch/>
        </p:blipFill>
        <p:spPr>
          <a:xfrm>
            <a:off x="476280" y="2328840"/>
            <a:ext cx="8234280" cy="45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2. Poverty in Scotl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Subtitle 2" descr=""/>
          <p:cNvPicPr/>
          <p:nvPr/>
        </p:nvPicPr>
        <p:blipFill>
          <a:blip r:embed="rId1"/>
          <a:stretch/>
        </p:blipFill>
        <p:spPr>
          <a:xfrm>
            <a:off x="360360" y="1481040"/>
            <a:ext cx="8326440" cy="4035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\\ads\filestore\SPOL\Staff\Poverty &amp; Social Exclusion\Communications - PRels, slides, articles\Logos\PSE logo(s)\PSE Logo.png"/>
          <p:cNvPicPr/>
          <p:nvPr/>
        </p:nvPicPr>
        <p:blipFill>
          <a:blip r:embed="rId2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2. Poverty in Scotl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Chart 5" descr=""/>
          <p:cNvPicPr/>
          <p:nvPr/>
        </p:nvPicPr>
        <p:blipFill>
          <a:blip r:embed="rId2"/>
          <a:stretch/>
        </p:blipFill>
        <p:spPr>
          <a:xfrm>
            <a:off x="109440" y="933480"/>
            <a:ext cx="9053640" cy="592452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6"/>
          <p:cNvSpPr/>
          <p:nvPr/>
        </p:nvSpPr>
        <p:spPr>
          <a:xfrm>
            <a:off x="5956200" y="1009800"/>
            <a:ext cx="2192400" cy="583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4948200" y="938160"/>
            <a:ext cx="2192400" cy="583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3868560" y="938160"/>
            <a:ext cx="2190960" cy="568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2787480" y="1009800"/>
            <a:ext cx="2192400" cy="561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716000" y="274320"/>
            <a:ext cx="397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PSE 1999 vs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PSE 201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Chart 6" descr=""/>
          <p:cNvPicPr/>
          <p:nvPr/>
        </p:nvPicPr>
        <p:blipFill>
          <a:blip r:embed="rId1"/>
          <a:stretch/>
        </p:blipFill>
        <p:spPr>
          <a:xfrm>
            <a:off x="0" y="42840"/>
            <a:ext cx="4498920" cy="3316320"/>
          </a:xfrm>
          <a:prstGeom prst="rect">
            <a:avLst/>
          </a:prstGeom>
          <a:ln w="0">
            <a:noFill/>
          </a:ln>
        </p:spPr>
      </p:pic>
      <p:pic>
        <p:nvPicPr>
          <p:cNvPr id="102" name="Chart 7" descr=""/>
          <p:cNvPicPr/>
          <p:nvPr/>
        </p:nvPicPr>
        <p:blipFill>
          <a:blip r:embed="rId2"/>
          <a:stretch/>
        </p:blipFill>
        <p:spPr>
          <a:xfrm>
            <a:off x="-152280" y="3205080"/>
            <a:ext cx="4732200" cy="3802320"/>
          </a:xfrm>
          <a:prstGeom prst="rect">
            <a:avLst/>
          </a:prstGeom>
          <a:ln w="0">
            <a:noFill/>
          </a:ln>
        </p:spPr>
      </p:pic>
      <p:pic>
        <p:nvPicPr>
          <p:cNvPr id="103" name="Chart 8" descr=""/>
          <p:cNvPicPr/>
          <p:nvPr/>
        </p:nvPicPr>
        <p:blipFill>
          <a:blip r:embed="rId3"/>
          <a:stretch/>
        </p:blipFill>
        <p:spPr>
          <a:xfrm>
            <a:off x="4275000" y="3205080"/>
            <a:ext cx="5008680" cy="380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2. Poverty in Scotl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Content Placeholder 3" descr=""/>
          <p:cNvPicPr/>
          <p:nvPr/>
        </p:nvPicPr>
        <p:blipFill>
          <a:blip r:embed="rId1"/>
          <a:stretch/>
        </p:blipFill>
        <p:spPr>
          <a:xfrm>
            <a:off x="971640" y="1441440"/>
            <a:ext cx="6985080" cy="4997520"/>
          </a:xfrm>
          <a:prstGeom prst="rect">
            <a:avLst/>
          </a:prstGeom>
          <a:ln w="0">
            <a:noFill/>
          </a:ln>
        </p:spPr>
      </p:pic>
      <p:sp>
        <p:nvSpPr>
          <p:cNvPr id="106" name="TextBox 4"/>
          <p:cNvSpPr/>
          <p:nvPr/>
        </p:nvSpPr>
        <p:spPr>
          <a:xfrm>
            <a:off x="324000" y="652464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ource: Bailey (2014) - FRS/HBAI ser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7200" y="8362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Calibri"/>
              </a:rPr>
              <a:t>Relative Risks of low income pover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cotland vs RoUK (BHC and AHC) – 2000/1 to 2011/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250920" y="1916280"/>
            <a:ext cx="8294760" cy="4465440"/>
          </a:xfrm>
          <a:prstGeom prst="rect">
            <a:avLst/>
          </a:prstGeom>
          <a:ln w="0">
            <a:noFill/>
          </a:ln>
        </p:spPr>
      </p:pic>
      <p:sp>
        <p:nvSpPr>
          <p:cNvPr id="110" name="TextBox 6"/>
          <p:cNvSpPr/>
          <p:nvPr/>
        </p:nvSpPr>
        <p:spPr>
          <a:xfrm>
            <a:off x="7596360" y="2205000"/>
            <a:ext cx="129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Higher in Scotland than RoU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7"/>
          <p:cNvSpPr/>
          <p:nvPr/>
        </p:nvSpPr>
        <p:spPr>
          <a:xfrm>
            <a:off x="7631280" y="5013360"/>
            <a:ext cx="151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Lower in Scot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than RoU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8"/>
          <p:cNvSpPr/>
          <p:nvPr/>
        </p:nvSpPr>
        <p:spPr>
          <a:xfrm>
            <a:off x="324000" y="652464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ource: Bailey (2014) - FRS/HBAI ser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Calibri"/>
              </a:rPr>
              <a:t>Relative Risks of low income poverty – U65 and 65+</a:t>
            </a:r>
            <a:br>
              <a:rPr sz="28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cotland vs RoUK (AHC) – 2000/1 to 2011/12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Content Placeholder 3" descr=""/>
          <p:cNvPicPr/>
          <p:nvPr/>
        </p:nvPicPr>
        <p:blipFill>
          <a:blip r:embed="rId1"/>
          <a:stretch/>
        </p:blipFill>
        <p:spPr>
          <a:xfrm>
            <a:off x="826920" y="2038320"/>
            <a:ext cx="7581960" cy="426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Chart 5" descr=""/>
          <p:cNvPicPr/>
          <p:nvPr/>
        </p:nvPicPr>
        <p:blipFill>
          <a:blip r:embed="rId1"/>
          <a:stretch/>
        </p:blipFill>
        <p:spPr>
          <a:xfrm>
            <a:off x="-6480" y="0"/>
            <a:ext cx="4578480" cy="3475080"/>
          </a:xfrm>
          <a:prstGeom prst="rect">
            <a:avLst/>
          </a:prstGeom>
          <a:ln w="0">
            <a:noFill/>
          </a:ln>
        </p:spPr>
      </p:pic>
      <p:pic>
        <p:nvPicPr>
          <p:cNvPr id="116" name="Chart 7" descr=""/>
          <p:cNvPicPr/>
          <p:nvPr/>
        </p:nvPicPr>
        <p:blipFill>
          <a:blip r:embed="rId2"/>
          <a:stretch/>
        </p:blipFill>
        <p:spPr>
          <a:xfrm>
            <a:off x="0" y="3498840"/>
            <a:ext cx="4578480" cy="3041640"/>
          </a:xfrm>
          <a:prstGeom prst="rect">
            <a:avLst/>
          </a:prstGeom>
          <a:ln w="0">
            <a:noFill/>
          </a:ln>
        </p:spPr>
      </p:pic>
      <p:pic>
        <p:nvPicPr>
          <p:cNvPr id="117" name="Chart 8" descr=""/>
          <p:cNvPicPr/>
          <p:nvPr/>
        </p:nvPicPr>
        <p:blipFill>
          <a:blip r:embed="rId3"/>
          <a:stretch/>
        </p:blipFill>
        <p:spPr>
          <a:xfrm>
            <a:off x="4572000" y="0"/>
            <a:ext cx="4565520" cy="3213000"/>
          </a:xfrm>
          <a:prstGeom prst="rect">
            <a:avLst/>
          </a:prstGeom>
          <a:ln w="0">
            <a:noFill/>
          </a:ln>
        </p:spPr>
      </p:pic>
      <p:pic>
        <p:nvPicPr>
          <p:cNvPr id="118" name="Chart 9" descr=""/>
          <p:cNvPicPr/>
          <p:nvPr/>
        </p:nvPicPr>
        <p:blipFill>
          <a:blip r:embed="rId4"/>
          <a:stretch/>
        </p:blipFill>
        <p:spPr>
          <a:xfrm>
            <a:off x="4565520" y="3425760"/>
            <a:ext cx="4657680" cy="3041640"/>
          </a:xfrm>
          <a:prstGeom prst="rect">
            <a:avLst/>
          </a:prstGeom>
          <a:ln w="0">
            <a:noFill/>
          </a:ln>
        </p:spPr>
      </p:pic>
      <p:sp>
        <p:nvSpPr>
          <p:cNvPr id="119" name="Rounded Rectangle 10"/>
          <p:cNvSpPr/>
          <p:nvPr/>
        </p:nvSpPr>
        <p:spPr>
          <a:xfrm>
            <a:off x="900000" y="404640"/>
            <a:ext cx="647640" cy="1584360"/>
          </a:xfrm>
          <a:custGeom>
            <a:avLst/>
            <a:gdLst>
              <a:gd name="textAreaLeft" fmla="*/ 31320 w 647640"/>
              <a:gd name="textAreaRight" fmla="*/ 616320 w 647640"/>
              <a:gd name="textAreaTop" fmla="*/ 31320 h 1584360"/>
              <a:gd name="textAreaBottom" fmla="*/ 1553040 h 1584360"/>
            </a:gdLst>
            <a:ahLst/>
            <a:rect l="textAreaLeft" t="textAreaTop" r="textAreaRight" b="textAreaBottom"/>
            <a:pathLst>
              <a:path w="21600" h="52824">
                <a:moveTo>
                  <a:pt x="3600" y="0"/>
                </a:moveTo>
                <a:arcTo wR="3600" hR="3600" stAng="16200000" swAng="-5400000"/>
                <a:lnTo>
                  <a:pt x="0" y="49224"/>
                </a:lnTo>
                <a:arcTo wR="3600" hR="3600" stAng="10800000" swAng="-5400000"/>
                <a:lnTo>
                  <a:pt x="18000" y="528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ounded Rectangle 11"/>
          <p:cNvSpPr/>
          <p:nvPr/>
        </p:nvSpPr>
        <p:spPr>
          <a:xfrm>
            <a:off x="1909800" y="290520"/>
            <a:ext cx="471600" cy="1584360"/>
          </a:xfrm>
          <a:custGeom>
            <a:avLst/>
            <a:gdLst>
              <a:gd name="textAreaLeft" fmla="*/ 22680 w 471600"/>
              <a:gd name="textAreaRight" fmla="*/ 448920 w 471600"/>
              <a:gd name="textAreaTop" fmla="*/ 22680 h 1584360"/>
              <a:gd name="textAreaBottom" fmla="*/ 1561680 h 1584360"/>
            </a:gdLst>
            <a:ahLst/>
            <a:rect l="textAreaLeft" t="textAreaTop" r="textAreaRight" b="textAreaBottom"/>
            <a:pathLst>
              <a:path w="21600" h="72527">
                <a:moveTo>
                  <a:pt x="3600" y="0"/>
                </a:moveTo>
                <a:arcTo wR="3600" hR="3600" stAng="16200000" swAng="-5400000"/>
                <a:lnTo>
                  <a:pt x="0" y="68927"/>
                </a:lnTo>
                <a:arcTo wR="3600" hR="3600" stAng="10800000" swAng="-5400000"/>
                <a:lnTo>
                  <a:pt x="18000" y="725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ounded Rectangle 12"/>
          <p:cNvSpPr/>
          <p:nvPr/>
        </p:nvSpPr>
        <p:spPr>
          <a:xfrm>
            <a:off x="1895400" y="3716280"/>
            <a:ext cx="1163880" cy="1944720"/>
          </a:xfrm>
          <a:custGeom>
            <a:avLst/>
            <a:gdLst>
              <a:gd name="textAreaLeft" fmla="*/ 56520 w 1163880"/>
              <a:gd name="textAreaRight" fmla="*/ 1107360 w 1163880"/>
              <a:gd name="textAreaTop" fmla="*/ 56520 h 1944720"/>
              <a:gd name="textAreaBottom" fmla="*/ 1888200 h 1944720"/>
            </a:gdLst>
            <a:ahLst/>
            <a:rect l="textAreaLeft" t="textAreaTop" r="textAreaRight" b="textAreaBottom"/>
            <a:pathLst>
              <a:path w="21600" h="36087">
                <a:moveTo>
                  <a:pt x="3600" y="0"/>
                </a:moveTo>
                <a:arcTo wR="3600" hR="3600" stAng="16200000" swAng="-5400000"/>
                <a:lnTo>
                  <a:pt x="0" y="32487"/>
                </a:lnTo>
                <a:arcTo wR="3600" hR="3600" stAng="10800000" swAng="-5400000"/>
                <a:lnTo>
                  <a:pt x="18000" y="360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ounded Rectangle 13"/>
          <p:cNvSpPr/>
          <p:nvPr/>
        </p:nvSpPr>
        <p:spPr>
          <a:xfrm>
            <a:off x="6300720" y="404640"/>
            <a:ext cx="647640" cy="1584360"/>
          </a:xfrm>
          <a:custGeom>
            <a:avLst/>
            <a:gdLst>
              <a:gd name="textAreaLeft" fmla="*/ 31320 w 647640"/>
              <a:gd name="textAreaRight" fmla="*/ 616320 w 647640"/>
              <a:gd name="textAreaTop" fmla="*/ 31320 h 1584360"/>
              <a:gd name="textAreaBottom" fmla="*/ 1553040 h 1584360"/>
            </a:gdLst>
            <a:ahLst/>
            <a:rect l="textAreaLeft" t="textAreaTop" r="textAreaRight" b="textAreaBottom"/>
            <a:pathLst>
              <a:path w="21600" h="52824">
                <a:moveTo>
                  <a:pt x="3600" y="0"/>
                </a:moveTo>
                <a:arcTo wR="3600" hR="3600" stAng="16200000" swAng="-5400000"/>
                <a:lnTo>
                  <a:pt x="0" y="49224"/>
                </a:lnTo>
                <a:arcTo wR="3600" hR="3600" stAng="10800000" swAng="-5400000"/>
                <a:lnTo>
                  <a:pt x="18000" y="528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ounded Rectangle 14"/>
          <p:cNvSpPr/>
          <p:nvPr/>
        </p:nvSpPr>
        <p:spPr>
          <a:xfrm>
            <a:off x="6310440" y="4348080"/>
            <a:ext cx="647640" cy="1584360"/>
          </a:xfrm>
          <a:custGeom>
            <a:avLst/>
            <a:gdLst>
              <a:gd name="textAreaLeft" fmla="*/ 31320 w 647640"/>
              <a:gd name="textAreaRight" fmla="*/ 616320 w 647640"/>
              <a:gd name="textAreaTop" fmla="*/ 31320 h 1584360"/>
              <a:gd name="textAreaBottom" fmla="*/ 1553040 h 1584360"/>
            </a:gdLst>
            <a:ahLst/>
            <a:rect l="textAreaLeft" t="textAreaTop" r="textAreaRight" b="textAreaBottom"/>
            <a:pathLst>
              <a:path w="21600" h="52824">
                <a:moveTo>
                  <a:pt x="3600" y="0"/>
                </a:moveTo>
                <a:arcTo wR="3600" hR="3600" stAng="16200000" swAng="-5400000"/>
                <a:lnTo>
                  <a:pt x="0" y="49224"/>
                </a:lnTo>
                <a:arcTo wR="3600" hR="3600" stAng="10800000" swAng="-5400000"/>
                <a:lnTo>
                  <a:pt x="18000" y="528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overty rates by housing ten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Content Placeholder 3" descr=""/>
          <p:cNvPicPr/>
          <p:nvPr/>
        </p:nvPicPr>
        <p:blipFill>
          <a:blip r:embed="rId1"/>
          <a:stretch/>
        </p:blipFill>
        <p:spPr>
          <a:xfrm>
            <a:off x="457200" y="1596960"/>
            <a:ext cx="8229600" cy="45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3. Economic resources &amp; financial stres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Content Placeholder 5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22680"/>
          </a:xfrm>
          <a:prstGeom prst="rect">
            <a:avLst/>
          </a:prstGeom>
          <a:ln w="0">
            <a:noFill/>
          </a:ln>
        </p:spPr>
      </p:pic>
      <p:sp>
        <p:nvSpPr>
          <p:cNvPr id="128" name="Rounded Rectangle 7"/>
          <p:cNvSpPr/>
          <p:nvPr/>
        </p:nvSpPr>
        <p:spPr>
          <a:xfrm>
            <a:off x="5508720" y="3213000"/>
            <a:ext cx="1584360" cy="360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ounded Rectangle 8"/>
          <p:cNvSpPr/>
          <p:nvPr/>
        </p:nvSpPr>
        <p:spPr>
          <a:xfrm>
            <a:off x="7251840" y="4078440"/>
            <a:ext cx="1584360" cy="2887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ounded Rectangle 9"/>
          <p:cNvSpPr/>
          <p:nvPr/>
        </p:nvSpPr>
        <p:spPr>
          <a:xfrm>
            <a:off x="7236000" y="4724280"/>
            <a:ext cx="1584000" cy="28908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ounded Rectangle 10"/>
          <p:cNvSpPr/>
          <p:nvPr/>
        </p:nvSpPr>
        <p:spPr>
          <a:xfrm>
            <a:off x="2987640" y="3213000"/>
            <a:ext cx="2305080" cy="9367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ounded Rectangle 11"/>
          <p:cNvSpPr/>
          <p:nvPr/>
        </p:nvSpPr>
        <p:spPr>
          <a:xfrm>
            <a:off x="1187280" y="3213000"/>
            <a:ext cx="1656000" cy="576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ounded Rectangle 12"/>
          <p:cNvSpPr/>
          <p:nvPr/>
        </p:nvSpPr>
        <p:spPr>
          <a:xfrm>
            <a:off x="7236000" y="5084640"/>
            <a:ext cx="1584000" cy="64800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ounded Rectangle 13"/>
          <p:cNvSpPr/>
          <p:nvPr/>
        </p:nvSpPr>
        <p:spPr>
          <a:xfrm rot="19196400">
            <a:off x="915840" y="4579920"/>
            <a:ext cx="2114640" cy="6001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ounded Rectangle 15"/>
          <p:cNvSpPr/>
          <p:nvPr/>
        </p:nvSpPr>
        <p:spPr>
          <a:xfrm>
            <a:off x="7236000" y="3718080"/>
            <a:ext cx="1584000" cy="2887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overty in Scotl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2060280"/>
            <a:ext cx="799128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o Scots have a different view of the ‘</a:t>
            </a: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necessities of lif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’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an we use the same consensual standard for judging poverty in Scotland as in RoUK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428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s poverty higher in Scotland and, if so, for whom and why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428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about broader picture of economic resources or financial stres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3. Economic resources &amp; financial stres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Content Placeholder 3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22680"/>
          </a:xfrm>
          <a:prstGeom prst="rect">
            <a:avLst/>
          </a:prstGeom>
          <a:ln w="0">
            <a:noFill/>
          </a:ln>
        </p:spPr>
      </p:pic>
      <p:sp>
        <p:nvSpPr>
          <p:cNvPr id="138" name="Rounded Rectangular Callout 4"/>
          <p:cNvSpPr/>
          <p:nvPr/>
        </p:nvSpPr>
        <p:spPr>
          <a:xfrm>
            <a:off x="7308720" y="981000"/>
            <a:ext cx="1835280" cy="2376720"/>
          </a:xfrm>
          <a:prstGeom prst="wedgeRoundRectCallout">
            <a:avLst>
              <a:gd name="adj1" fmla="val -65555"/>
              <a:gd name="adj2" fmla="val 31472"/>
              <a:gd name="adj3" fmla="val 16667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Priv. hlth i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Holiday ab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Second 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Second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Second bth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Home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3. Economic resources &amp; financial stres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Deprivation (22 item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Income (BHC, AHC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Quality of good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ssessment of seven are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Luxuries”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ix items owned by only minor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Financial stres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Keeping up with bil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ebts or arrea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orrowing - sour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3. Economic resources &amp; financial stres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Chart 3" descr=""/>
          <p:cNvPicPr/>
          <p:nvPr/>
        </p:nvPicPr>
        <p:blipFill>
          <a:blip r:embed="rId1"/>
          <a:stretch/>
        </p:blipFill>
        <p:spPr>
          <a:xfrm>
            <a:off x="536400" y="1481040"/>
            <a:ext cx="8394840" cy="49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3. Economic resources &amp; financial stres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Content Placeholder 3" descr=""/>
          <p:cNvPicPr/>
          <p:nvPr/>
        </p:nvPicPr>
        <p:blipFill>
          <a:blip r:embed="rId1"/>
          <a:stretch/>
        </p:blipFill>
        <p:spPr>
          <a:xfrm>
            <a:off x="155520" y="1197000"/>
            <a:ext cx="2255760" cy="525636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4"/>
          <p:cNvSpPr/>
          <p:nvPr/>
        </p:nvSpPr>
        <p:spPr>
          <a:xfrm>
            <a:off x="2916360" y="2043000"/>
            <a:ext cx="5914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ombined factor score based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come (AHC – PSE and F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privation (22 ite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Quality of goods (seven ratin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inancial stress (multiple qns on keeping up with bills, debts, borrow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using problems (multiple qns on: physical conditions; heating affordability; satisfaction and sp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45548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K consensual poverty measure can be applied to Scotland – attitudes no differ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overty in Scotland around one fifth lower than RoUK on several measur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.200,000 fewer in poverty than if UK rates had appli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till very large in absolute terms and relative to other EU count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900k poor on PSE meas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overty shift over last 10 years – difficult to attribute to policy ‘made in Scotland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250920" y="5877000"/>
            <a:ext cx="1800000" cy="7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1. Setting the poverty stand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4360" y="1700280"/>
            <a:ext cx="777528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Views about which items are “necessities” (at least 50% suppor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250920" y="3357720"/>
          <a:ext cx="7057800" cy="3219120"/>
        </p:xfrm>
        <a:graphic>
          <a:graphicData uri="http://schemas.openxmlformats.org/drawingml/2006/table">
            <a:tbl>
              <a:tblPr/>
              <a:tblGrid>
                <a:gridCol w="1944720"/>
                <a:gridCol w="1627200"/>
                <a:gridCol w="1742760"/>
                <a:gridCol w="1743120"/>
              </a:tblGrid>
              <a:tr h="1107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iti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ewed as necessities in U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t in Scot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9cde5"/>
                    </a:solidFill>
                  </a:tcPr>
                </a:tc>
              </a:tr>
              <a:tr h="420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ult ite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9cde5"/>
                    </a:solidFill>
                  </a:tcPr>
                </a:tc>
              </a:tr>
              <a:tr h="431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ult activit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9cde5"/>
                    </a:solidFill>
                  </a:tcPr>
                </a:tc>
              </a:tr>
              <a:tr h="420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ld ite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9cde5"/>
                    </a:solidFill>
                  </a:tcPr>
                </a:tc>
              </a:tr>
              <a:tr h="419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ld activit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9cde5"/>
                    </a:solidFill>
                  </a:tcPr>
                </a:tc>
              </a:tr>
              <a:tr h="419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9cde5"/>
                    </a:solidFill>
                  </a:tcPr>
                </a:tc>
              </a:tr>
            </a:tbl>
          </a:graphicData>
        </a:graphic>
      </p:graphicFrame>
      <p:sp>
        <p:nvSpPr>
          <p:cNvPr id="59" name="TextBox 7"/>
          <p:cNvSpPr/>
          <p:nvPr/>
        </p:nvSpPr>
        <p:spPr>
          <a:xfrm>
            <a:off x="7380360" y="5657760"/>
            <a:ext cx="17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Gannon &amp; Bailey (2014) </a:t>
            </a:r>
            <a:r>
              <a:rPr b="1" i="1" lang="en-GB" sz="1800" spc="-1" strike="noStrike">
                <a:solidFill>
                  <a:srgbClr val="000000"/>
                </a:solidFill>
                <a:latin typeface="Calibri"/>
              </a:rPr>
              <a:t>Social Policy &amp; Society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13 (3), 321-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3708360" y="3284640"/>
            <a:ext cx="1943280" cy="33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5580000" y="3357720"/>
            <a:ext cx="1800360" cy="33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1. Setting the poverty stand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  <p:sp>
        <p:nvSpPr>
          <p:cNvPr id="64" name="TextBox 7"/>
          <p:cNvSpPr/>
          <p:nvPr/>
        </p:nvSpPr>
        <p:spPr>
          <a:xfrm>
            <a:off x="7380360" y="5657760"/>
            <a:ext cx="17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Gannon &amp; Bailey (2014) </a:t>
            </a:r>
            <a:r>
              <a:rPr b="1" i="1" lang="en-GB" sz="1800" spc="-1" strike="noStrike">
                <a:solidFill>
                  <a:srgbClr val="000000"/>
                </a:solidFill>
                <a:latin typeface="Calibri"/>
              </a:rPr>
              <a:t>Social Policy &amp; Society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13 (3), 321-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0" y="1601640"/>
            <a:ext cx="6896160" cy="5256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3"/>
          <a:stretch/>
        </p:blipFill>
        <p:spPr>
          <a:xfrm>
            <a:off x="-39600" y="1619280"/>
            <a:ext cx="6883200" cy="5108400"/>
          </a:xfrm>
          <a:prstGeom prst="rect">
            <a:avLst/>
          </a:prstGeom>
          <a:ln w="0">
            <a:noFill/>
          </a:ln>
        </p:spPr>
      </p:pic>
      <p:sp>
        <p:nvSpPr>
          <p:cNvPr id="67" name="Oval 8"/>
          <p:cNvSpPr/>
          <p:nvPr/>
        </p:nvSpPr>
        <p:spPr>
          <a:xfrm>
            <a:off x="2989440" y="6413400"/>
            <a:ext cx="129528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9"/>
          <p:cNvSpPr/>
          <p:nvPr/>
        </p:nvSpPr>
        <p:spPr>
          <a:xfrm>
            <a:off x="0" y="3500280"/>
            <a:ext cx="468360" cy="1152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1. Setting the poverty stand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  <p:sp>
        <p:nvSpPr>
          <p:cNvPr id="71" name="TextBox 5"/>
          <p:cNvSpPr/>
          <p:nvPr/>
        </p:nvSpPr>
        <p:spPr>
          <a:xfrm>
            <a:off x="7380360" y="5657760"/>
            <a:ext cx="17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Gannon &amp; Bailey (2014) </a:t>
            </a:r>
            <a:r>
              <a:rPr b="1" i="1" lang="en-GB" sz="1800" spc="-1" strike="noStrike">
                <a:solidFill>
                  <a:srgbClr val="000000"/>
                </a:solidFill>
                <a:latin typeface="Calibri"/>
              </a:rPr>
              <a:t>Social Policy &amp; Society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13 (3), 321-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2"/>
          <a:stretch/>
        </p:blipFill>
        <p:spPr>
          <a:xfrm>
            <a:off x="0" y="1609560"/>
            <a:ext cx="7077240" cy="5248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3"/>
          <a:stretch/>
        </p:blipFill>
        <p:spPr>
          <a:xfrm>
            <a:off x="0" y="1600200"/>
            <a:ext cx="7095960" cy="5257800"/>
          </a:xfrm>
          <a:prstGeom prst="rect">
            <a:avLst/>
          </a:prstGeom>
          <a:ln w="0">
            <a:noFill/>
          </a:ln>
        </p:spPr>
      </p:pic>
      <p:cxnSp>
        <p:nvCxnSpPr>
          <p:cNvPr id="74" name="Straight Arrow Connector 7"/>
          <p:cNvCxnSpPr/>
          <p:nvPr/>
        </p:nvCxnSpPr>
        <p:spPr>
          <a:xfrm>
            <a:off x="2843280" y="3500280"/>
            <a:ext cx="721440" cy="43416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5" name="TextBox 8"/>
          <p:cNvSpPr/>
          <p:nvPr/>
        </p:nvSpPr>
        <p:spPr>
          <a:xfrm>
            <a:off x="1619280" y="2852640"/>
            <a:ext cx="13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Friends round once a fortn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1. Setting the poverty stand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84360" y="1700280"/>
            <a:ext cx="777528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Views about necessities virtually identical – appropriate to use single ‘UK’ standar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onfirms results from 1999 (Pantazis </a:t>
            </a: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et al.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, 2006</a:t>
            </a: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Fits with wider research on social and political attitude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mage of Scotland as ‘distinct’ or more ‘progressive’ in this regard tends to be over-stat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2. Poverty in Scotl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dults suffering deprivations (‘000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457200" y="2421000"/>
            <a:ext cx="8344080" cy="40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2. Poverty in Scotl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lmost one million people cannot afford adequate housing condi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ore than 200,000 children live in homes that are damp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lmost one in three people (30%) cannot afford to heat their homes adequately in the wint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round 350,000 children live in cold homes in win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800,000 too poor to engage in common social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ver quarter of a million children and adults not properly f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ver 400,000 adults go without essential clothing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ne in five adults had to borrow in last year to pay for day to day need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2. Poverty in Scotl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47640" y="1090440"/>
          <a:ext cx="6193080" cy="5783400"/>
        </p:xfrm>
        <a:graphic>
          <a:graphicData uri="http://schemas.openxmlformats.org/drawingml/2006/table">
            <a:tbl>
              <a:tblPr/>
              <a:tblGrid>
                <a:gridCol w="4415040"/>
                <a:gridCol w="981000"/>
                <a:gridCol w="797040"/>
              </a:tblGrid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43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ular savings  (of at least £20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me in a decent state of dec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43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place/repair broken elec goo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me Insur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wo pairs of all weather sh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mp-free h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2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propriate clothes for job intervie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hobby or leisure activity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warm waterproof co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esh fruit/veg. dai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sit friends/family in hosp. et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end weddings, funerals et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3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ebrations on special occcas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me adequately wa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t, etc. every other 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wo meals a 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1T13:00:53Z</dcterms:created>
  <dc:creator>Nick Bailey</dc:creator>
  <dc:description/>
  <dc:language>en-US</dc:language>
  <cp:lastModifiedBy>User</cp:lastModifiedBy>
  <dcterms:modified xsi:type="dcterms:W3CDTF">2014-08-31T10:15:12Z</dcterms:modified>
  <cp:revision>131</cp:revision>
  <dc:subject/>
  <dc:title>PSE Conference slide</dc:title>
</cp:coreProperties>
</file>