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BE2-5D14-444F-AB0E-79A0A4596F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F36-102A-4DD7-821C-0E2C9D8701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2E3-6478-4BA8-8E26-948B3B43A4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9FC-933F-4D16-A6B5-C91128E6DF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9AD6-4679-4801-AF6C-485FC0350A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C9B-2465-4532-850F-410A4B3821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D18-3B7B-41B6-9D10-0026DEAFAB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F77-6C49-477A-BC7D-18E80502A4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82D5-236E-4BE0-86C6-5627F3DFC7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E29A-402A-471B-BD39-72A9CB1090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D60D-1054-431E-A6F6-2D587C32F8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967-81A8-4BFF-97E1-05CCF4EC53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D4D-D7F3-447E-9EFE-95F7964837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62D-4D51-4771-B86C-20B9C05C95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F97B-426E-4A5B-BA52-29BF2EBD0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9A65-7075-411C-8CDB-77A1B545A4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EC6-BE2A-4FFE-8DBA-BD26146129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6F32-0B02-4082-A447-0785B130D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4AB-4D70-49AC-B8F9-6DAE83D8C1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7D04-1831-4A54-800F-A63D2B8FA4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92B4-DFC1-49BC-8267-CB932977DC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360-AD88-42A7-BF5C-702A53AF76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D28-22ED-4F24-9F4D-A5014E32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C3B-88BF-4199-B5E9-5DB84D72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C9C-D670-4B97-AE36-8F577C6C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80A-AAD2-445E-ACE8-EE7B80F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17A-895F-4A90-9366-57A6688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E39-C47B-4239-A4A6-A5F146D8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168-34BC-470B-BB63-5D66F0E7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D33-AF68-4666-B175-C7F7EFF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11D-64FE-457F-B82C-1CF71179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FBD-1015-46F7-902D-CBDE0AF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F62-F756-44C4-BCA4-0CCB23C4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0BA-A2DC-4D17-B551-DF81D46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21F-EC71-4727-BBD1-757D69A08D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ild poverty and social exclusion in Scotland</a:t>
            </a:r>
            <a:br>
              <a:rPr sz="41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Gill M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iversity of York</a:t>
            </a:r>
            <a:br>
              <a:rPr sz="2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cotland People’s Centre, Edinbur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700360" y="56815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Box 2"/>
          <p:cNvSpPr/>
          <p:nvPr/>
        </p:nvSpPr>
        <p:spPr>
          <a:xfrm>
            <a:off x="2411280" y="333360"/>
            <a:ext cx="59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y by ownership/participation – just necessities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3" descr=""/>
          <p:cNvPicPr/>
          <p:nvPr/>
        </p:nvPicPr>
        <p:blipFill>
          <a:blip r:embed="rId3"/>
          <a:stretch/>
        </p:blipFill>
        <p:spPr>
          <a:xfrm>
            <a:off x="609480" y="1841400"/>
            <a:ext cx="78519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44400" y="1052640"/>
            <a:ext cx="81360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18 children living in Sco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adult in household asked to indicate whether any child in their household lacks items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ly items lacked through being unable to afford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 children considered deprived if any child lacks and can’t aff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e adjustments for some items/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ems/activities subject to validity, reliability and additivity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ong with income data, used to produce indicator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rivation (separate child and adult ind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 income (household, applied to all individuals within h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SE Poverty (single indicator drawing on 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rivation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 inco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method – Main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44400" y="1052640"/>
            <a:ext cx="813600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rates of lacking items/activities through being unable to afford Scotland vs Ro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atterns in terms of what is most/least likely to be l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 least likely: three meals (Scotland: 0%; RoUK: 1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s most likely: Pocket money (Scotland:12%; RoUK: 16%)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drooms (Scotland 13%; RoUK 11%); Money to s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Scotland: 30%; RoUK 3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tivity least likely: celebrations on special occas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Scotland: 1%; RoUK: 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tivities most likely: Day trips with family (Scotland: 17%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UK: 21%); Annual holiday (Scotland: 26%; RoUK: 2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 items/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privation - over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Chart 4" descr=""/>
          <p:cNvPicPr/>
          <p:nvPr/>
        </p:nvPicPr>
        <p:blipFill>
          <a:blip r:embed="rId3"/>
          <a:stretch/>
        </p:blipFill>
        <p:spPr>
          <a:xfrm>
            <a:off x="682560" y="1407960"/>
            <a:ext cx="77788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privation -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Chart 5" descr=""/>
          <p:cNvPicPr/>
          <p:nvPr/>
        </p:nvPicPr>
        <p:blipFill>
          <a:blip r:embed="rId3"/>
          <a:stretch/>
        </p:blipFill>
        <p:spPr>
          <a:xfrm>
            <a:off x="755640" y="1335240"/>
            <a:ext cx="75596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1280" y="3333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w income (&lt;60% median, PSE equivalis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16000" y="1628640"/>
          <a:ext cx="6912000" cy="4503960"/>
        </p:xfrm>
        <a:graphic>
          <a:graphicData uri="http://schemas.openxmlformats.org/drawingml/2006/table">
            <a:tbl>
              <a:tblPr/>
              <a:tblGrid>
                <a:gridCol w="3162240"/>
                <a:gridCol w="1125720"/>
                <a:gridCol w="1125360"/>
                <a:gridCol w="749520"/>
                <a:gridCol w="749160"/>
              </a:tblGrid>
              <a:tr h="831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lativ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out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1280" y="3333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poverty (3+ deprivations, below income 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1628640"/>
          <a:ext cx="7848360" cy="4873680"/>
        </p:xfrm>
        <a:graphic>
          <a:graphicData uri="http://schemas.openxmlformats.org/drawingml/2006/table">
            <a:tbl>
              <a:tblPr/>
              <a:tblGrid>
                <a:gridCol w="2881080"/>
                <a:gridCol w="1622520"/>
                <a:gridCol w="1514520"/>
                <a:gridCol w="968400"/>
                <a:gridCol w="861840"/>
              </a:tblGrid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lativ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-only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644400" y="1268280"/>
            <a:ext cx="8136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igher rates of PSE poverty associated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a workless household (odds: 4.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lone-adult households (odds: 4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socially-rented accommodation(odds:18.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‘other’ (not owner or social rented) (odds: 16.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PSE poor childr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households with at least one adult in full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e work (4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two-adult households (5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socially rented accommodation (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isk factors and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4400" y="10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1280" y="33336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ra-household sharing (depriv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1519200"/>
          <a:ext cx="7488000" cy="1854360"/>
        </p:xfrm>
        <a:graphic>
          <a:graphicData uri="http://schemas.openxmlformats.org/drawingml/2006/table">
            <a:tbl>
              <a:tblPr/>
              <a:tblGrid>
                <a:gridCol w="3863880"/>
                <a:gridCol w="2112840"/>
                <a:gridCol w="1511280"/>
              </a:tblGrid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not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 adults not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2"/>
          <p:cNvSpPr/>
          <p:nvPr/>
        </p:nvSpPr>
        <p:spPr>
          <a:xfrm>
            <a:off x="900000" y="3645000"/>
            <a:ext cx="75596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stics of adults who go without when children do no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ents (composition: 95%; rate: 81%; odds: 5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men (composition: 68%; rate: 88%; odds: 4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 carer (composition: 61%; rate: 98%; odds: 40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ignificant differences by age group, employment status, ethn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ra-household sharing - econom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24000" y="1397160"/>
          <a:ext cx="8456400" cy="4957560"/>
        </p:xfrm>
        <a:graphic>
          <a:graphicData uri="http://schemas.openxmlformats.org/drawingml/2006/table">
            <a:tbl>
              <a:tblPr/>
              <a:tblGrid>
                <a:gridCol w="3663720"/>
                <a:gridCol w="1135080"/>
                <a:gridCol w="1135080"/>
                <a:gridCol w="1260360"/>
                <a:gridCol w="1262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onomising behavi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s in households with poor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useholds containing poor children (at least one ad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mped on food so others could have en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ght second hand clothes instead of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to wear worn-out clot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 back on visits to hairdresser/bar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d visits to dent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t less on hobb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 back on social visits, going to the pub, eating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644400" y="1052640"/>
            <a:ext cx="813600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of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vious P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rability with F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s identified by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ults (aged 16+) asked to indicate whether item/s activities were necessities for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ems deemed necessities if 50%+ of adults say children need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otland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011 Scotland survey: 465 respon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012 Britain survey: 111 respon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41128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method – Attitudes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644400" y="1052640"/>
            <a:ext cx="813600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more likely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 injured or have an accident at home requiring A&amp;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eatment; odds: 4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bullied; odds: 2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special educational needs; odds: 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more likely to live with adults wh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ck social support; odds: 4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all workless; odds: 6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all unemployed; odds: 14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one is unemployed; odds: 7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ded from social participation; odds: 4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ded from political participation; odds: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no more likely to live with adults lacking daily contact with family/fri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4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644400" y="1052640"/>
            <a:ext cx="81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consensus on necessities of life for children – Scotland vs RoUK and other sub-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inimal differences in deprivation, low income and PSE poverty between Scotland and RoUK for children or households with children, but lower overall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 perception of necessities is relative – but not just re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lessness and lone parenthood increase risk of poverty, but most poor children in households with at least one adult in full time work and with two adults; no evidence of ‘skivers’ or ‘broken’ families as root causes of pov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evidence of parental ‘fecklessness’ or prioritising of own needs – rather, adults living with children go without to protect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ild poverty associated with a range of negative outcomes for children, and children living in poverty likely to live with adults experiencing social excl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1"/>
          <p:cNvSpPr/>
          <p:nvPr/>
        </p:nvSpPr>
        <p:spPr>
          <a:xfrm>
            <a:off x="644400" y="1400040"/>
            <a:ext cx="8136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7 out of 22 selected as necessities over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dentical list selected by 2011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5 of these 17 selected by 2012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7 out of 8 selected as necessities over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l 8 selected as necessities by 2011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dentical list to overall selected as necessities by 2012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two significant differences between Scottish and RoUK respondents in % seeing items/activities as neces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mputer and internet: 67% (RoUK), 56% (Scotland 2011)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RR:0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hildren’s clubs/activities: 74% (RoUK), 80% (Scotland 2011)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RR:1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5280" y="1341360"/>
          <a:ext cx="8209080" cy="5486400"/>
        </p:xfrm>
        <a:graphic>
          <a:graphicData uri="http://schemas.openxmlformats.org/drawingml/2006/table">
            <a:tbl>
              <a:tblPr/>
              <a:tblGrid>
                <a:gridCol w="4248000"/>
                <a:gridCol w="936720"/>
                <a:gridCol w="1513080"/>
                <a:gridCol w="151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winter co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 fruit/veg once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, properly fitting sh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e meals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den or outdoor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ks at home suitable for their 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, fish or equivalent once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itable place at home to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or g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room for every child over 10 of a different s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/internet for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new, not second hand, clot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door leisure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least four pairs trousers/simi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to s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ket 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 t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95280" y="1695600"/>
          <a:ext cx="8209080" cy="4111560"/>
        </p:xfrm>
        <a:graphic>
          <a:graphicData uri="http://schemas.openxmlformats.org/drawingml/2006/table">
            <a:tbl>
              <a:tblPr/>
              <a:tblGrid>
                <a:gridCol w="4248000"/>
                <a:gridCol w="936720"/>
                <a:gridCol w="1513080"/>
                <a:gridCol w="1511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ebrations on special occa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bby or leisure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group/nursery/toddler group once a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ren’s clubs/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trips with family once a 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trip once a te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 away from home once a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ends round for tea/snack once a fort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2"/>
          <p:cNvSpPr/>
          <p:nvPr/>
        </p:nvSpPr>
        <p:spPr>
          <a:xfrm>
            <a:off x="2411280" y="333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ces by sub-group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3"/>
          <a:stretch/>
        </p:blipFill>
        <p:spPr>
          <a:xfrm>
            <a:off x="426960" y="1212840"/>
            <a:ext cx="78883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2"/>
          <p:cNvSpPr/>
          <p:nvPr/>
        </p:nvSpPr>
        <p:spPr>
          <a:xfrm>
            <a:off x="2411280" y="333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nges in perceptions over time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46040" y="1916280"/>
          <a:ext cx="8229600" cy="3786120"/>
        </p:xfrm>
        <a:graphic>
          <a:graphicData uri="http://schemas.openxmlformats.org/drawingml/2006/table">
            <a:tbl>
              <a:tblPr/>
              <a:tblGrid>
                <a:gridCol w="6502320"/>
                <a:gridCol w="936720"/>
                <a:gridCol w="79056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Item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Fresh fruit or vegetables at least once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garden or outdoor space nearby where they can play safe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(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at, fish or vegetarian equivalent at least once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omputer and internet for home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(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Some new, not second hand, clot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t least four pairs of trousers, leggings, jeans or jogging botto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oing on a school trip at least once a ter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onstruction to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holiday away from home for at least one week a ye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Friends round for tea or a snack once a fortn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bicyc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Box 2"/>
          <p:cNvSpPr/>
          <p:nvPr/>
        </p:nvSpPr>
        <p:spPr>
          <a:xfrm>
            <a:off x="2411280" y="333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nges in perceptions over time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3"/>
          <a:stretch/>
        </p:blipFill>
        <p:spPr>
          <a:xfrm>
            <a:off x="469800" y="1195560"/>
            <a:ext cx="80647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Box 2"/>
          <p:cNvSpPr/>
          <p:nvPr/>
        </p:nvSpPr>
        <p:spPr>
          <a:xfrm>
            <a:off x="2411280" y="33336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y by ownership/participation – all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9" descr=""/>
          <p:cNvPicPr/>
          <p:nvPr/>
        </p:nvPicPr>
        <p:blipFill>
          <a:blip r:embed="rId3"/>
          <a:stretch/>
        </p:blipFill>
        <p:spPr>
          <a:xfrm>
            <a:off x="426960" y="1212840"/>
            <a:ext cx="7815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10:08:56Z</dcterms:created>
  <dc:creator>User</dc:creator>
  <dc:description/>
  <dc:language>en-US</dc:language>
  <cp:lastModifiedBy>User</cp:lastModifiedBy>
  <cp:lastPrinted>2014-08-13T11:53:19Z</cp:lastPrinted>
  <dcterms:modified xsi:type="dcterms:W3CDTF">2014-08-31T10:20:18Z</dcterms:modified>
  <cp:revision>69</cp:revision>
  <dc:subject/>
  <dc:title>The Extent of Poverty in the UK</dc:title>
</cp:coreProperties>
</file>