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28240" y="428760"/>
            <a:ext cx="3986280" cy="299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9CEA-3918-4013-A41D-ADD5D7EA8F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6A15-3CF0-4365-9020-1B863F3536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lative’ view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– what factors raise the ris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ven with focus on families thru’ tax credits, hhlds with children have signif higher poverty risks (even after controlling for age, occupation, etc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ccupation important – PAY RA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ACK OF EMPLOYMENT - low work intensity and poor his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Absolute’ view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– who are the working poor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any work full-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any in households with high work intens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B2DE-EBD4-41AB-84D6-436BE749A5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56D4-E474-40FB-952F-BDC563F865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F9CD-09F6-42B5-9D27-ACFB7D4D7C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1BC6-A810-4CEF-B8F9-4C9E0A4279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1F67-57E4-4384-A220-8D33783BC9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B8B5-E668-42BB-A147-4C2000DA98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6BAD-C498-42E4-BC19-D64B4EFF5E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05BB-57C7-4239-B145-C11B0D6B2B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AB6-5AFE-4622-861B-40F538D8F7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4469-71F2-49CD-BEEA-FC9D0E6FC5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414-841B-4BE1-BDF1-0A451E7D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2F7-4B8B-4D76-9ABD-5252DA9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0E7-87A1-4F97-9FC2-3FF0AA5C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F95-58A7-46D5-B8C3-B2D97716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8745-5344-4BBB-A792-29B5B7C0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949-0509-459D-B969-EBE8A253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FD47-DB8E-493C-A136-D76B993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BF3F-0C95-4859-A64C-56C14E3C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0B62-EB4B-44B8-A0A7-1CCC2A2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8B01-2C1E-401E-816B-68E0AB67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95B0-EECF-48BC-8F59-D64E2EF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C07-8552-454D-BDCC-85A779DC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C766-B96E-4D7C-B78F-165540A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E0D-EC8F-4E70-A913-75626765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C3A5-02B0-42FC-991D-A0DD0BE1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8679-4AF1-4854-88E7-628106E8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7916-37F8-4BF7-A0D6-14BC8747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BAC-A9EF-4331-98CB-2B7F552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995-7E10-410B-9BB2-9611301F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246-F5D8-4E70-931B-AF48462A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80C-44B0-411B-8A06-F9689DAD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7F9-5C92-489F-91A4-E7F1FD1A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CA3-0AD8-49F2-A41F-216162A3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2EA-7A47-4B1F-A619-FDF6D03D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699-DB2F-4EA7-BD7C-92B74AC634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179280" y="5950080"/>
            <a:ext cx="1800360" cy="72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9D18-E627-42E9-9F20-56DC709486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Nick Bail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University of Glasg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mployment, poverty and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by hhld work intensity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– Scot vs RoU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4427640" y="1557360"/>
            <a:ext cx="4392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hart 7" descr=""/>
          <p:cNvPicPr/>
          <p:nvPr/>
        </p:nvPicPr>
        <p:blipFill>
          <a:blip r:embed="rId1"/>
          <a:stretch/>
        </p:blipFill>
        <p:spPr>
          <a:xfrm>
            <a:off x="0" y="1914480"/>
            <a:ext cx="9144000" cy="4943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Employment and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verty risks by employment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067280" y="1916280"/>
            <a:ext cx="381780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Employment and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tors raising risks of in-work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hld with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hildre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ingl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ers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mi-/routine and lower supervisory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ccupat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x 2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ork intensit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ss than 0.4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x 2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2+ months unem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in last five yea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x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for large minority of people, problem is NOT lack of access to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6% of working age adults who are poor are in wor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[Scot = 45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9% of working poor work 40+ hours a wee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[Scot = 31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5% of working poor in hhlds with Work Intensity &gt; 0.8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[Scot = 41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mployment, Health &amp; Well-be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s of employment on health &amp; W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tus, identity, routine,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erial or economic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Quality of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ysical demands, haz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sychosocial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wo-way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mployment, Health &amp; Well-be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mployment quality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– sum of five scores (12 v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tisfaction/sense of valu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satisfaction, interesting, usefu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stres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OT stressful, NOT tight deadlin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ol/flexibility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task control, control start/finish, time-of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od physical condi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temperature, smoke/dust/noise, NOT physically demand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urity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job secu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hart 13" descr=""/>
          <p:cNvPicPr/>
          <p:nvPr/>
        </p:nvPicPr>
        <p:blipFill>
          <a:blip r:embed="rId1"/>
          <a:stretch/>
        </p:blipFill>
        <p:spPr>
          <a:xfrm>
            <a:off x="-6480" y="1335240"/>
            <a:ext cx="9156960" cy="5529240"/>
          </a:xfrm>
          <a:prstGeom prst="rect">
            <a:avLst/>
          </a:prstGeom>
          <a:ln w="0">
            <a:noFill/>
          </a:ln>
        </p:spPr>
      </p:pic>
      <p:sp>
        <p:nvSpPr>
          <p:cNvPr id="173" name="Rounded Rectangle 10"/>
          <p:cNvSpPr/>
          <p:nvPr/>
        </p:nvSpPr>
        <p:spPr>
          <a:xfrm>
            <a:off x="1692360" y="4941720"/>
            <a:ext cx="792000" cy="7909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11"/>
          <p:cNvSpPr/>
          <p:nvPr/>
        </p:nvSpPr>
        <p:spPr>
          <a:xfrm>
            <a:off x="3851280" y="4149720"/>
            <a:ext cx="792000" cy="115092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150920"/>
              <a:gd name="textAreaBottom" fmla="*/ 1112400 h 1150920"/>
            </a:gdLst>
            <a:ahLst/>
            <a:rect l="textAreaLeft" t="textAreaTop" r="textAreaRight" b="textAreaBottom"/>
            <a:pathLst>
              <a:path w="21600" h="31384">
                <a:moveTo>
                  <a:pt x="3600" y="0"/>
                </a:moveTo>
                <a:arcTo wR="3600" hR="3600" stAng="16200000" swAng="-5400000"/>
                <a:lnTo>
                  <a:pt x="0" y="27784"/>
                </a:lnTo>
                <a:arcTo wR="3600" hR="3600" stAng="10800000" swAng="-5400000"/>
                <a:lnTo>
                  <a:pt x="18000" y="31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12"/>
          <p:cNvSpPr/>
          <p:nvPr/>
        </p:nvSpPr>
        <p:spPr>
          <a:xfrm>
            <a:off x="6012000" y="3213000"/>
            <a:ext cx="792000" cy="93672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936720"/>
              <a:gd name="textAreaBottom" fmla="*/ 898200 h 936720"/>
            </a:gdLst>
            <a:ahLst/>
            <a:rect l="textAreaLeft" t="textAreaTop" r="textAreaRight" b="textAreaBottom"/>
            <a:pathLst>
              <a:path w="21600" h="25545">
                <a:moveTo>
                  <a:pt x="3600" y="0"/>
                </a:moveTo>
                <a:arcTo wR="3600" hR="3600" stAng="16200000" swAng="-5400000"/>
                <a:lnTo>
                  <a:pt x="0" y="21945"/>
                </a:lnTo>
                <a:arcTo wR="3600" hR="3600" stAng="10800000" swAng="-5400000"/>
                <a:lnTo>
                  <a:pt x="18000" y="25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3132000" y="1268280"/>
            <a:ext cx="403236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15"/>
          <p:cNvSpPr/>
          <p:nvPr/>
        </p:nvSpPr>
        <p:spPr>
          <a:xfrm>
            <a:off x="7308720" y="3933720"/>
            <a:ext cx="1835280" cy="1079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mployment, Health &amp; Well-be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220840" y="1413000"/>
            <a:ext cx="407988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7450200" y="4729320"/>
            <a:ext cx="165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mployment, Health &amp; Well-be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557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i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owest quintile for job quality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ve health/well-being no better than unemploy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fter controlling for gender, age, physical health, income, deprivation, occupation,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evidence of causal link but consistent with other work which shows such a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or quality work, like low paid work, does not lead to social i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otland has similar proportion of jobs of “low qualit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1% c.w. 23% for RoUK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[+/-  4% and 2% respectively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9"/>
          <p:cNvSpPr/>
          <p:nvPr/>
        </p:nvSpPr>
        <p:spPr>
          <a:xfrm>
            <a:off x="243000" y="4680000"/>
            <a:ext cx="4392360" cy="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15960" y="1052640"/>
            <a:ext cx="716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17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5960" y="4749840"/>
            <a:ext cx="1147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(59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615960" y="5167440"/>
            <a:ext cx="1219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(48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Work+poor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"/>
          <p:cNvSpPr/>
          <p:nvPr/>
        </p:nvSpPr>
        <p:spPr>
          <a:xfrm>
            <a:off x="900000" y="114480"/>
            <a:ext cx="7272360" cy="6308640"/>
          </a:xfrm>
          <a:prstGeom prst="ellipse">
            <a:avLst/>
          </a:prstGeom>
          <a:solidFill>
            <a:srgbClr val="ecf1f8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val 4"/>
          <p:cNvGrpSpPr/>
          <p:nvPr/>
        </p:nvGrpSpPr>
        <p:grpSpPr>
          <a:xfrm>
            <a:off x="3029040" y="1816200"/>
            <a:ext cx="3011400" cy="2792160"/>
            <a:chOff x="3029040" y="1816200"/>
            <a:chExt cx="3011400" cy="2792160"/>
          </a:xfrm>
        </p:grpSpPr>
        <p:pic>
          <p:nvPicPr>
            <p:cNvPr id="96" name="Oval 4" descr=""/>
            <p:cNvPicPr/>
            <p:nvPr/>
          </p:nvPicPr>
          <p:blipFill>
            <a:blip r:embed="rId1"/>
            <a:stretch/>
          </p:blipFill>
          <p:spPr>
            <a:xfrm>
              <a:off x="3029040" y="1816200"/>
              <a:ext cx="301140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92360" y="2246400"/>
              <a:ext cx="208764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Rectangle 6" descr=""/>
          <p:cNvPicPr/>
          <p:nvPr/>
        </p:nvPicPr>
        <p:blipFill>
          <a:blip r:embed="rId2"/>
          <a:stretch/>
        </p:blipFill>
        <p:spPr>
          <a:xfrm>
            <a:off x="2084400" y="781200"/>
            <a:ext cx="2494080" cy="74916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7" descr=""/>
          <p:cNvPicPr/>
          <p:nvPr/>
        </p:nvPicPr>
        <p:blipFill>
          <a:blip r:embed="rId3"/>
          <a:stretch/>
        </p:blipFill>
        <p:spPr>
          <a:xfrm>
            <a:off x="4627440" y="731880"/>
            <a:ext cx="1906560" cy="74916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8" descr=""/>
          <p:cNvPicPr/>
          <p:nvPr/>
        </p:nvPicPr>
        <p:blipFill>
          <a:blip r:embed="rId4"/>
          <a:stretch/>
        </p:blipFill>
        <p:spPr>
          <a:xfrm>
            <a:off x="3529080" y="4456080"/>
            <a:ext cx="2305080" cy="74916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0"/>
          <p:cNvSpPr/>
          <p:nvPr/>
        </p:nvSpPr>
        <p:spPr>
          <a:xfrm>
            <a:off x="4535640" y="114480"/>
            <a:ext cx="0" cy="17301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3"/>
          <p:cNvSpPr/>
          <p:nvPr/>
        </p:nvSpPr>
        <p:spPr>
          <a:xfrm>
            <a:off x="5867280" y="3860640"/>
            <a:ext cx="1800360" cy="10083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6"/>
          <p:cNvSpPr/>
          <p:nvPr/>
        </p:nvSpPr>
        <p:spPr>
          <a:xfrm flipH="1">
            <a:off x="1619280" y="3933000"/>
            <a:ext cx="1657440" cy="115092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24" descr=""/>
          <p:cNvPicPr/>
          <p:nvPr/>
        </p:nvPicPr>
        <p:blipFill>
          <a:blip r:embed="rId5"/>
          <a:stretch/>
        </p:blipFill>
        <p:spPr>
          <a:xfrm>
            <a:off x="1474920" y="1457280"/>
            <a:ext cx="2232000" cy="76824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25" descr=""/>
          <p:cNvPicPr/>
          <p:nvPr/>
        </p:nvPicPr>
        <p:blipFill>
          <a:blip r:embed="rId6"/>
          <a:stretch/>
        </p:blipFill>
        <p:spPr>
          <a:xfrm>
            <a:off x="1189080" y="2395440"/>
            <a:ext cx="1944720" cy="7686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26" descr=""/>
          <p:cNvPicPr/>
          <p:nvPr/>
        </p:nvPicPr>
        <p:blipFill>
          <a:blip r:embed="rId7"/>
          <a:stretch/>
        </p:blipFill>
        <p:spPr>
          <a:xfrm>
            <a:off x="1042920" y="3475080"/>
            <a:ext cx="2230560" cy="76824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27" descr=""/>
          <p:cNvPicPr/>
          <p:nvPr/>
        </p:nvPicPr>
        <p:blipFill>
          <a:blip r:embed="rId8"/>
          <a:stretch/>
        </p:blipFill>
        <p:spPr>
          <a:xfrm>
            <a:off x="4505400" y="1176480"/>
            <a:ext cx="2413080" cy="76824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28" descr=""/>
          <p:cNvPicPr/>
          <p:nvPr/>
        </p:nvPicPr>
        <p:blipFill>
          <a:blip r:embed="rId9"/>
          <a:stretch/>
        </p:blipFill>
        <p:spPr>
          <a:xfrm>
            <a:off x="5699160" y="2004840"/>
            <a:ext cx="2195640" cy="7686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32" descr=""/>
          <p:cNvPicPr/>
          <p:nvPr/>
        </p:nvPicPr>
        <p:blipFill>
          <a:blip r:embed="rId10"/>
          <a:stretch/>
        </p:blipFill>
        <p:spPr>
          <a:xfrm>
            <a:off x="6029280" y="2798640"/>
            <a:ext cx="2017800" cy="53496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33" descr=""/>
          <p:cNvPicPr/>
          <p:nvPr/>
        </p:nvPicPr>
        <p:blipFill>
          <a:blip r:embed="rId11"/>
          <a:stretch/>
        </p:blipFill>
        <p:spPr>
          <a:xfrm>
            <a:off x="1908000" y="4552920"/>
            <a:ext cx="2017800" cy="7682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34" descr=""/>
          <p:cNvPicPr/>
          <p:nvPr/>
        </p:nvPicPr>
        <p:blipFill>
          <a:blip r:embed="rId12"/>
          <a:stretch/>
        </p:blipFill>
        <p:spPr>
          <a:xfrm>
            <a:off x="4773600" y="5273640"/>
            <a:ext cx="2170080" cy="76680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35" descr=""/>
          <p:cNvPicPr/>
          <p:nvPr/>
        </p:nvPicPr>
        <p:blipFill>
          <a:blip r:embed="rId13"/>
          <a:stretch/>
        </p:blipFill>
        <p:spPr>
          <a:xfrm>
            <a:off x="2481120" y="5273640"/>
            <a:ext cx="2163960" cy="76680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36" descr=""/>
          <p:cNvPicPr/>
          <p:nvPr/>
        </p:nvPicPr>
        <p:blipFill>
          <a:blip r:embed="rId14"/>
          <a:stretch/>
        </p:blipFill>
        <p:spPr>
          <a:xfrm>
            <a:off x="5578560" y="4479840"/>
            <a:ext cx="2017800" cy="76860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37" descr=""/>
          <p:cNvPicPr/>
          <p:nvPr/>
        </p:nvPicPr>
        <p:blipFill>
          <a:blip r:embed="rId15"/>
          <a:stretch/>
        </p:blipFill>
        <p:spPr>
          <a:xfrm>
            <a:off x="3206880" y="2352600"/>
            <a:ext cx="2833560" cy="174312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23" descr=""/>
          <p:cNvPicPr/>
          <p:nvPr/>
        </p:nvPicPr>
        <p:blipFill>
          <a:blip r:embed="rId16"/>
          <a:stretch/>
        </p:blipFill>
        <p:spPr>
          <a:xfrm>
            <a:off x="6035760" y="3413160"/>
            <a:ext cx="2163600" cy="536400"/>
          </a:xfrm>
          <a:prstGeom prst="rect">
            <a:avLst/>
          </a:prstGeom>
          <a:ln w="0">
            <a:noFill/>
          </a:ln>
        </p:spPr>
      </p:pic>
      <p:sp>
        <p:nvSpPr>
          <p:cNvPr id="116" name="Oval 22"/>
          <p:cNvSpPr/>
          <p:nvPr/>
        </p:nvSpPr>
        <p:spPr>
          <a:xfrm>
            <a:off x="2050920" y="4437000"/>
            <a:ext cx="158436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4500720" y="1197000"/>
            <a:ext cx="23749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1"/>
          <p:cNvSpPr/>
          <p:nvPr/>
        </p:nvSpPr>
        <p:spPr>
          <a:xfrm>
            <a:off x="1692360" y="1413000"/>
            <a:ext cx="1727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hape 45"/>
          <p:cNvCxnSpPr/>
          <p:nvPr/>
        </p:nvCxnSpPr>
        <p:spPr>
          <a:xfrm flipH="1" flipV="1" rot="5400000">
            <a:off x="2250000" y="2149920"/>
            <a:ext cx="2844000" cy="1658160"/>
          </a:xfrm>
          <a:prstGeom prst="curvedConnector2">
            <a:avLst/>
          </a:prstGeom>
          <a:ln w="31680">
            <a:solidFill>
              <a:srgbClr val="ff0000"/>
            </a:solidFill>
            <a:prstDash val="sysDash"/>
            <a:miter/>
            <a:tailEnd len="lg" type="stealth" w="lg"/>
          </a:ln>
        </p:spPr>
      </p:cxnSp>
      <p:cxnSp>
        <p:nvCxnSpPr>
          <p:cNvPr id="120" name="Shape 46"/>
          <p:cNvCxnSpPr>
            <a:endCxn id="118" idx="5"/>
          </p:cNvCxnSpPr>
          <p:nvPr/>
        </p:nvCxnSpPr>
        <p:spPr>
          <a:xfrm flipH="1" flipV="1" rot="5400000">
            <a:off x="1865520" y="3065040"/>
            <a:ext cx="2277360" cy="324360"/>
          </a:xfrm>
          <a:prstGeom prst="curvedConnector5">
            <a:avLst>
              <a:gd name="adj1" fmla="val 79446"/>
              <a:gd name="adj2" fmla="val 50000"/>
              <a:gd name="adj3" fmla="val 79446"/>
            </a:avLst>
          </a:prstGeom>
          <a:ln w="31680">
            <a:solidFill>
              <a:srgbClr val="ff0000"/>
            </a:solidFill>
            <a:prstDash val="sysDash"/>
            <a:miter/>
            <a:tailEnd len="lg" type="stealth" w="lg"/>
          </a:ln>
        </p:spPr>
      </p:cxnSp>
      <p:cxnSp>
        <p:nvCxnSpPr>
          <p:cNvPr id="121" name="Shape 46"/>
          <p:cNvCxnSpPr>
            <a:endCxn id="118" idx="6"/>
          </p:cNvCxnSpPr>
          <p:nvPr/>
        </p:nvCxnSpPr>
        <p:spPr>
          <a:xfrm flipV="1" rot="10800000">
            <a:off x="3418920" y="1556280"/>
            <a:ext cx="1008720" cy="2516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31680">
            <a:solidFill>
              <a:srgbClr val="ff0000"/>
            </a:solidFill>
            <a:prstDash val="sysDash"/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Work+poor qual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9"/>
          <p:cNvSpPr/>
          <p:nvPr/>
        </p:nvSpPr>
        <p:spPr>
          <a:xfrm>
            <a:off x="990720" y="2236680"/>
            <a:ext cx="468360" cy="19432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737" h="3061">
                <a:moveTo>
                  <a:pt x="0" y="0"/>
                </a:moveTo>
                <a:lnTo>
                  <a:pt x="737" y="0"/>
                </a:lnTo>
                <a:lnTo>
                  <a:pt x="737" y="1868"/>
                </a:lnTo>
                <a:lnTo>
                  <a:pt x="510" y="1868"/>
                </a:lnTo>
                <a:lnTo>
                  <a:pt x="510" y="3061"/>
                </a:lnTo>
                <a:lnTo>
                  <a:pt x="0" y="3061"/>
                </a:lnTo>
                <a:lnTo>
                  <a:pt x="0" y="0"/>
                </a:lnTo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98520" y="1720800"/>
            <a:ext cx="92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q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Work+poor hstry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9"/>
          <p:cNvSpPr/>
          <p:nvPr/>
        </p:nvSpPr>
        <p:spPr>
          <a:xfrm>
            <a:off x="990720" y="2236680"/>
            <a:ext cx="468360" cy="19432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737" h="3061">
                <a:moveTo>
                  <a:pt x="0" y="0"/>
                </a:moveTo>
                <a:lnTo>
                  <a:pt x="737" y="0"/>
                </a:lnTo>
                <a:lnTo>
                  <a:pt x="737" y="1868"/>
                </a:lnTo>
                <a:lnTo>
                  <a:pt x="510" y="1868"/>
                </a:lnTo>
                <a:lnTo>
                  <a:pt x="510" y="3061"/>
                </a:lnTo>
                <a:lnTo>
                  <a:pt x="0" y="3061"/>
                </a:lnTo>
                <a:lnTo>
                  <a:pt x="0" y="0"/>
                </a:lnTo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98520" y="1720800"/>
            <a:ext cx="92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q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hs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xclusionary emp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ny 1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3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+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8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1258560" y="907920"/>
            <a:ext cx="1782000" cy="3824280"/>
            <a:chOff x="1258560" y="907920"/>
            <a:chExt cx="1782000" cy="3824280"/>
          </a:xfrm>
        </p:grpSpPr>
        <p:cxnSp>
          <p:nvCxnSpPr>
            <p:cNvPr id="280" name="AutoShape 18"/>
            <p:cNvCxnSpPr/>
            <p:nvPr/>
          </p:nvCxnSpPr>
          <p:spPr>
            <a:xfrm>
              <a:off x="1258560" y="90792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281" name="AutoShape 17"/>
            <p:cNvCxnSpPr/>
            <p:nvPr/>
          </p:nvCxnSpPr>
          <p:spPr>
            <a:xfrm flipH="1">
              <a:off x="1492920" y="3420720"/>
              <a:ext cx="154692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282" name="AutoShape 16"/>
            <p:cNvCxnSpPr/>
            <p:nvPr/>
          </p:nvCxnSpPr>
          <p:spPr>
            <a:xfrm>
              <a:off x="3039840" y="342108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283" name="AutoShape 15"/>
            <p:cNvCxnSpPr/>
            <p:nvPr/>
          </p:nvCxnSpPr>
          <p:spPr>
            <a:xfrm>
              <a:off x="1493280" y="2218680"/>
              <a:ext cx="1080" cy="120240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284" name="AutoShape 14"/>
            <p:cNvCxnSpPr/>
            <p:nvPr/>
          </p:nvCxnSpPr>
          <p:spPr>
            <a:xfrm flipH="1">
              <a:off x="1258560" y="2218680"/>
              <a:ext cx="23544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</p:grpSp>
      <p:sp>
        <p:nvSpPr>
          <p:cNvPr id="285" name="Rounded Rectangle 29"/>
          <p:cNvSpPr/>
          <p:nvPr/>
        </p:nvSpPr>
        <p:spPr>
          <a:xfrm>
            <a:off x="7866000" y="2852640"/>
            <a:ext cx="1224000" cy="1079640"/>
          </a:xfrm>
          <a:prstGeom prst="roundRect">
            <a:avLst>
              <a:gd name="adj" fmla="val 8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9"/>
          <p:cNvSpPr/>
          <p:nvPr/>
        </p:nvSpPr>
        <p:spPr>
          <a:xfrm>
            <a:off x="990720" y="2236680"/>
            <a:ext cx="468360" cy="19432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737" h="3061">
                <a:moveTo>
                  <a:pt x="0" y="0"/>
                </a:moveTo>
                <a:lnTo>
                  <a:pt x="737" y="0"/>
                </a:lnTo>
                <a:lnTo>
                  <a:pt x="737" y="1868"/>
                </a:lnTo>
                <a:lnTo>
                  <a:pt x="510" y="1868"/>
                </a:lnTo>
                <a:lnTo>
                  <a:pt x="510" y="3061"/>
                </a:lnTo>
                <a:lnTo>
                  <a:pt x="0" y="3061"/>
                </a:lnTo>
                <a:lnTo>
                  <a:pt x="0" y="0"/>
                </a:lnTo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298520" y="1720800"/>
            <a:ext cx="92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q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hs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xclusionary emp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ny 1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3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+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8%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1258560" y="907920"/>
            <a:ext cx="1782000" cy="3824280"/>
            <a:chOff x="1258560" y="907920"/>
            <a:chExt cx="1782000" cy="3824280"/>
          </a:xfrm>
        </p:grpSpPr>
        <p:cxnSp>
          <p:nvCxnSpPr>
            <p:cNvPr id="308" name="AutoShape 18"/>
            <p:cNvCxnSpPr/>
            <p:nvPr/>
          </p:nvCxnSpPr>
          <p:spPr>
            <a:xfrm>
              <a:off x="1258560" y="90792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09" name="AutoShape 17"/>
            <p:cNvCxnSpPr/>
            <p:nvPr/>
          </p:nvCxnSpPr>
          <p:spPr>
            <a:xfrm flipH="1">
              <a:off x="1492920" y="3420720"/>
              <a:ext cx="154692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10" name="AutoShape 16"/>
            <p:cNvCxnSpPr/>
            <p:nvPr/>
          </p:nvCxnSpPr>
          <p:spPr>
            <a:xfrm>
              <a:off x="3039840" y="342108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11" name="AutoShape 15"/>
            <p:cNvCxnSpPr/>
            <p:nvPr/>
          </p:nvCxnSpPr>
          <p:spPr>
            <a:xfrm>
              <a:off x="1493280" y="2218680"/>
              <a:ext cx="1080" cy="120240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12" name="AutoShape 14"/>
            <p:cNvCxnSpPr/>
            <p:nvPr/>
          </p:nvCxnSpPr>
          <p:spPr>
            <a:xfrm flipH="1">
              <a:off x="1258560" y="2218680"/>
              <a:ext cx="23544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>
            <a:off x="990720" y="2236680"/>
            <a:ext cx="468360" cy="19432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737" h="3061">
                <a:moveTo>
                  <a:pt x="0" y="0"/>
                </a:moveTo>
                <a:lnTo>
                  <a:pt x="737" y="0"/>
                </a:lnTo>
                <a:lnTo>
                  <a:pt x="737" y="1868"/>
                </a:lnTo>
                <a:lnTo>
                  <a:pt x="510" y="1868"/>
                </a:lnTo>
                <a:lnTo>
                  <a:pt x="510" y="3061"/>
                </a:lnTo>
                <a:lnTo>
                  <a:pt x="0" y="3061"/>
                </a:lnTo>
                <a:lnTo>
                  <a:pt x="0" y="0"/>
                </a:lnTo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298520" y="1720800"/>
            <a:ext cx="92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q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hs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xclusionary emp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ny 1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3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+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8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ONE THIR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of those in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xclusionary employmen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have mad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no progress in employment over las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3"/>
          <p:cNvGrpSpPr/>
          <p:nvPr/>
        </p:nvGrpSpPr>
        <p:grpSpPr>
          <a:xfrm>
            <a:off x="1258560" y="907920"/>
            <a:ext cx="1782000" cy="3824280"/>
            <a:chOff x="1258560" y="907920"/>
            <a:chExt cx="1782000" cy="3824280"/>
          </a:xfrm>
        </p:grpSpPr>
        <p:cxnSp>
          <p:nvCxnSpPr>
            <p:cNvPr id="335" name="AutoShape 18"/>
            <p:cNvCxnSpPr/>
            <p:nvPr/>
          </p:nvCxnSpPr>
          <p:spPr>
            <a:xfrm>
              <a:off x="1258560" y="90792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36" name="AutoShape 17"/>
            <p:cNvCxnSpPr/>
            <p:nvPr/>
          </p:nvCxnSpPr>
          <p:spPr>
            <a:xfrm flipH="1">
              <a:off x="1492920" y="3420720"/>
              <a:ext cx="154692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37" name="AutoShape 16"/>
            <p:cNvCxnSpPr/>
            <p:nvPr/>
          </p:nvCxnSpPr>
          <p:spPr>
            <a:xfrm>
              <a:off x="3039840" y="342108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38" name="AutoShape 15"/>
            <p:cNvCxnSpPr/>
            <p:nvPr/>
          </p:nvCxnSpPr>
          <p:spPr>
            <a:xfrm>
              <a:off x="1493280" y="2218680"/>
              <a:ext cx="1080" cy="120240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39" name="AutoShape 14"/>
            <p:cNvCxnSpPr/>
            <p:nvPr/>
          </p:nvCxnSpPr>
          <p:spPr>
            <a:xfrm flipH="1">
              <a:off x="1258560" y="2218680"/>
              <a:ext cx="23544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Conclusions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itain’s broken labour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policy focus on “inclusionary employment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ess to work – employment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y – Living Wage+, hours, under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bility/security – predictability, continu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y – satisfaction, control, stress, phys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g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bour market &amp; policy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0920" y="15573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ng-term restruct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re unequal returns, increasing ‘flexibility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ession reinforced this – rise of underemployment and 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um wage and tax credits B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lfare reforms, sanctions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bsence of labour market regulation and curbs on un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ives rise of in-work poverty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UK figs from HBA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2% of poor in work in 2011/12  [40% in 1996/7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1% of working age poor in work in 2011/12  [53% in 1996/7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hart 9" descr=""/>
          <p:cNvPicPr/>
          <p:nvPr/>
        </p:nvPicPr>
        <p:blipFill>
          <a:blip r:embed="rId1"/>
          <a:stretch/>
        </p:blipFill>
        <p:spPr>
          <a:xfrm>
            <a:off x="317520" y="974880"/>
            <a:ext cx="8508960" cy="4694040"/>
          </a:xfrm>
          <a:prstGeom prst="rect">
            <a:avLst/>
          </a:prstGeom>
          <a:ln w="0">
            <a:noFill/>
          </a:ln>
        </p:spPr>
      </p:pic>
      <p:sp>
        <p:nvSpPr>
          <p:cNvPr id="125" name="Straight Connector 11"/>
          <p:cNvSpPr/>
          <p:nvPr/>
        </p:nvSpPr>
        <p:spPr>
          <a:xfrm>
            <a:off x="1049400" y="287352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4"/>
          <p:cNvSpPr/>
          <p:nvPr/>
        </p:nvSpPr>
        <p:spPr>
          <a:xfrm>
            <a:off x="8286840" y="2516040"/>
            <a:ext cx="358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9"/>
          <p:cNvSpPr/>
          <p:nvPr/>
        </p:nvSpPr>
        <p:spPr>
          <a:xfrm>
            <a:off x="2467080" y="279252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0"/>
          <p:cNvSpPr/>
          <p:nvPr/>
        </p:nvSpPr>
        <p:spPr>
          <a:xfrm>
            <a:off x="3951360" y="280656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2"/>
          <p:cNvSpPr/>
          <p:nvPr/>
        </p:nvSpPr>
        <p:spPr>
          <a:xfrm>
            <a:off x="6862680" y="259884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3"/>
          <p:cNvSpPr/>
          <p:nvPr/>
        </p:nvSpPr>
        <p:spPr>
          <a:xfrm>
            <a:off x="5384880" y="267804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>
            <a:off x="1332000" y="5805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52% of all peopl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in poverty in working hh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- 61% of working ag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in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721800" y="11592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income poverty (AHC) by household employm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K - 1996/7 to 2011/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7614360" y="65502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BAI (DWP, 201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cess to emplo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hart 3" descr=""/>
          <p:cNvPicPr/>
          <p:nvPr/>
        </p:nvPicPr>
        <p:blipFill>
          <a:blip r:embed="rId1"/>
          <a:stretch/>
        </p:blipFill>
        <p:spPr>
          <a:xfrm>
            <a:off x="176040" y="1487520"/>
            <a:ext cx="8718840" cy="51879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0" y="1268280"/>
            <a:ext cx="6732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79280" y="3716280"/>
            <a:ext cx="6732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cess to emplo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Employment and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Content Placeholder 2" descr=""/>
          <p:cNvPicPr/>
          <p:nvPr/>
        </p:nvPicPr>
        <p:blipFill>
          <a:blip r:embed="rId1"/>
          <a:stretch/>
        </p:blipFill>
        <p:spPr>
          <a:xfrm>
            <a:off x="334800" y="1444680"/>
            <a:ext cx="8352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Employment and poverty - U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hart 5" descr=""/>
          <p:cNvPicPr/>
          <p:nvPr/>
        </p:nvPicPr>
        <p:blipFill>
          <a:blip r:embed="rId1"/>
          <a:stretch/>
        </p:blipFill>
        <p:spPr>
          <a:xfrm>
            <a:off x="0" y="3998880"/>
            <a:ext cx="9144000" cy="2859120"/>
          </a:xfrm>
          <a:prstGeom prst="rect">
            <a:avLst/>
          </a:prstGeom>
          <a:ln w="0">
            <a:noFill/>
          </a:ln>
        </p:spPr>
      </p:pic>
      <p:pic>
        <p:nvPicPr>
          <p:cNvPr id="144" name="Chart 4" descr=""/>
          <p:cNvPicPr/>
          <p:nvPr/>
        </p:nvPicPr>
        <p:blipFill>
          <a:blip r:embed="rId2"/>
          <a:stretch/>
        </p:blipFill>
        <p:spPr>
          <a:xfrm>
            <a:off x="0" y="1122480"/>
            <a:ext cx="9144000" cy="28828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4284720" y="134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5940360" y="1341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2484360" y="1341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82692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411280" y="1268280"/>
            <a:ext cx="532944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7740720" y="1484280"/>
            <a:ext cx="140328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In-work poverty – Scot vs RoU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6443640" y="1484280"/>
            <a:ext cx="23065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1187280" y="177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-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3059280" y="177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-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643280" y="1413000"/>
            <a:ext cx="230688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843280" y="1413000"/>
            <a:ext cx="23065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13:25:27Z</dcterms:created>
  <dc:creator>Nick Bailey</dc:creator>
  <dc:description/>
  <dc:language>en-US</dc:language>
  <cp:lastModifiedBy>User</cp:lastModifiedBy>
  <dcterms:modified xsi:type="dcterms:W3CDTF">2014-08-31T10:13:11Z</dcterms:modified>
  <cp:revision>101</cp:revision>
  <dc:subject/>
  <dc:title>PSE Conference slide</dc:title>
</cp:coreProperties>
</file>