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3.png" ContentType="image/png"/>
  <Override PartName="/ppt/media/image4.png" ContentType="image/png"/>
  <Override PartName="/ppt/media/image28.wmf" ContentType="image/x-wmf"/>
  <Override PartName="/ppt/media/image10.png" ContentType="image/png"/>
  <Override PartName="/ppt/media/image30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18.png" ContentType="image/png"/>
  <Override PartName="/ppt/media/image17.png" ContentType="image/png"/>
  <Override PartName="/ppt/media/image20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FFFD-1560-43B7-B72B-EF8C6005D6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3F55-63E0-4419-A368-43B66DAEBE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D679-579E-40ED-A47E-1DB1417A54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5956-8CE4-4CBD-B5A5-CB505C75920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1D2D-44AA-4045-A9FF-5A5D615E1A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DB2D-5AB2-4687-8D5D-29E0823BA5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C458-8E29-4496-A615-88A2959308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4D4B-6011-4220-A647-0195054CAA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84EE-E232-4F2D-8423-BED15CAA7B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BA84-B050-486E-8A85-939F1AC6D6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CB1F-7C24-4ABB-8448-03C964A1E28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3ECC-6EBF-4E71-AAAA-2668562B26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27D3-28BB-4332-9B1E-9C54C28A2A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BA46-EEC0-467C-AED4-0BAFD5FC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1EA-B5EF-4363-A897-15E21667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304F-8592-491E-AD3D-EC45CC44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C3D0-554E-4268-85FC-3171BA44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FFD8-BBBE-4CE6-BF04-92C43970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60C2-C19F-4001-B850-FC2A70B4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A79-B875-4346-B035-475526B8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8E8A-84DF-43DE-87CE-995E24E0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8F1E-D53F-4FA9-8B6B-7F547743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02A-4250-4864-976D-888209B7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8E7D-E62D-479F-BFD1-D91C380E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12FA-29D4-4AFA-A294-FDF29384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7035-5586-40DB-81F3-0F51BAAF36F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cial Exclusion in the UK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Scot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4149720"/>
            <a:ext cx="763272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len Braml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riot-Watt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2700360" y="5681520"/>
            <a:ext cx="45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verty and Social Exclusion in the Scotland and the U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minar – Edinburgh 20 August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6553440" cy="3029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611280" y="3359160"/>
            <a:ext cx="655308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6480360" cy="3137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1116000" y="3500280"/>
            <a:ext cx="648036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 mentioned, an alternative approach to measuring and grouping social exclusion has been developed using continuous measures and factor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suggests that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fiv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groupings (factors) dominate across the pict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. Economic Resources (A1), Social Activities (B2) and Housing (C2H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. Political/Civic Partic (B4) &amp; Cultural /Education (B3/A4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. Family &amp; Social Resources (A3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. Neighbourhood Environment (C2N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5. Health &amp; Wellbeing (C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 correlates with 4; 2. correlates with 5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ther domains not strongly related, or only for certain groups (services, work environ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me BSEM domains not well measured (cultural resources, crime/har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Scotlan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is similar, but with an additional economic participation fa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s Scotland differe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short answer is ‘no, not very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n the majority of domains the Scottish score is similar to RoU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re are 4 (/12) domains where Scottish score is significantly differen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 Economic, Social Support, Housing, Crime/Victi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 in all of these cases Scotland scores lower (=bett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cotland appears higher on 2 domains, Services and Employment,  but these are not stats signif (Services is marginal, around 10% sig leve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rhaps surprising that Scotland is not higher (worse) on Health, Area Prob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cotland has a significantly lower incidence of 3+ deprivations (not 5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lationships of MDD scores with income &amp; PSE poverty index are very similar between Scotland and RoU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4247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260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2"/>
          <a:stretch/>
        </p:blipFill>
        <p:spPr>
          <a:xfrm>
            <a:off x="2124000" y="549360"/>
            <a:ext cx="5616720" cy="2894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3"/>
          <a:stretch/>
        </p:blipFill>
        <p:spPr>
          <a:xfrm>
            <a:off x="2124000" y="3429000"/>
            <a:ext cx="568800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s Rural Scotland differe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cottish urban-rural classification is different from RoU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 two different ways of grouping (a) rural vs small town (b) remote vs acces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ooking at (a) (rural vs rest), only two domains show significant differenc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 service exclusion is much greater in rural (50% vs 20%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 housing deprivation is much less in rural (11% vs 19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ooking at (b) (remote vs rest), 8 domains are significantly different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- only services are worse in remote (40% vs 20%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 other 7 domains are all better in remote (esp area probs, economic, education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 4 domains not significantly different (employment, social activities, civic participation, job qualit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omain Group scores – Rural Scotla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78487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mographics of Ex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ross UK, families are worst on 5 domains (economic, services, education, area, housing), working age on 5, elderly on 2 (civic &amp; healt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cial renters are worst or = on 10, private renters worst or = on 4 (services, social suppt, housing, job quality), owners on n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paring countries, England is worst on 3, Wales on 4, Scotland on 1 (nss), N Ireland on 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r most domains, worst decile of neighbourhoods (low income) have worst performance, but decile 9 is worse in 2 cases (services, education) while job quality is worst in middle of r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Demographics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539640" y="1641600"/>
            <a:ext cx="741708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4360" y="1699920"/>
            <a:ext cx="7991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SE approach to social excl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inition &amp;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far do domains overlap/correlat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with each other? With pover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Scotland differ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rural Scotland different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mographics’ of excl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sights into driv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Demographics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569080" cy="47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delling Ex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 can use logistic regression models to explore factors associated with being deprived on each do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sheds further light on demographics, on associations between domains, on key drivers including poverty, and on whether there is a ‘Scotland effect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confirms ‘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overlap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’ picture in some cases but modifies it in others (e.g. services more assoc with area, activities; activities more with social &amp; housing; health with social &amp; hous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SE Poverty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is a strong factor for social activities, health, housing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t relatively weak for services, social support, civic participation, crime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r area problems, neighbourhood poverty is more imp than ind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Scotland effec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still apparent for social suppt (-), soc activities (+), civic partic (-), crime (-); but not for services, health, housing, area (- =&gt; bett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Refle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34100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we measure exclusion makes a difference; some measures reported are less adequate than others (e.g. education/culture) and some are only a risk for certain groups e.g. families, work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BSEM framework is generally helpful and underlines that social exclusion does not all reduce to a single dimension, indistinguishable from povert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re is support for the Townsend concept of poverty in the strong association with social activities; also strong relationships with health, hou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ever, rather weaker associations with social support, civic participation, 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rvices are interesting for showing the least association with poverty and other domains – evidence perhaps that these do act to counter the general forces of disadvantage to a considerable de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cotland is more similar than different in most resp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ost differences show Scotland in a more favourable l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imilarly, apart from services, most differences for rural Scotland show this also in a more favourable light, particularly remote ar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250920" y="587700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Bristol Social Exclusion Matrix (BSEM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cess to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ultural (Education and Skil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ticip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ultu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ivic and Poli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lity of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ealth and Well-be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iving Environ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ime, harm and criminal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2700360" y="5681520"/>
            <a:ext cx="45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3"/>
          <p:cNvSpPr/>
          <p:nvPr/>
        </p:nvSpPr>
        <p:spPr>
          <a:xfrm>
            <a:off x="900000" y="114480"/>
            <a:ext cx="6985080" cy="6308640"/>
          </a:xfrm>
          <a:prstGeom prst="ellipse">
            <a:avLst/>
          </a:prstGeom>
          <a:solidFill>
            <a:srgbClr val="ecf1f8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Oval 4"/>
          <p:cNvGrpSpPr/>
          <p:nvPr/>
        </p:nvGrpSpPr>
        <p:grpSpPr>
          <a:xfrm>
            <a:off x="3029040" y="1816200"/>
            <a:ext cx="3011400" cy="2792160"/>
            <a:chOff x="3029040" y="1816200"/>
            <a:chExt cx="3011400" cy="2792160"/>
          </a:xfrm>
        </p:grpSpPr>
        <p:pic>
          <p:nvPicPr>
            <p:cNvPr id="63" name="Oval 4" descr=""/>
            <p:cNvPicPr/>
            <p:nvPr/>
          </p:nvPicPr>
          <p:blipFill>
            <a:blip r:embed="rId1"/>
            <a:stretch/>
          </p:blipFill>
          <p:spPr>
            <a:xfrm>
              <a:off x="3029040" y="1816200"/>
              <a:ext cx="3011400" cy="27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492360" y="2246400"/>
              <a:ext cx="2087640" cy="19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Rectangle 6" descr=""/>
          <p:cNvPicPr/>
          <p:nvPr/>
        </p:nvPicPr>
        <p:blipFill>
          <a:blip r:embed="rId2"/>
          <a:stretch/>
        </p:blipFill>
        <p:spPr>
          <a:xfrm>
            <a:off x="2084400" y="781200"/>
            <a:ext cx="2494080" cy="74916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7" descr=""/>
          <p:cNvPicPr/>
          <p:nvPr/>
        </p:nvPicPr>
        <p:blipFill>
          <a:blip r:embed="rId3"/>
          <a:stretch/>
        </p:blipFill>
        <p:spPr>
          <a:xfrm>
            <a:off x="4627440" y="731880"/>
            <a:ext cx="1906560" cy="74916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8" descr=""/>
          <p:cNvPicPr/>
          <p:nvPr/>
        </p:nvPicPr>
        <p:blipFill>
          <a:blip r:embed="rId4"/>
          <a:stretch/>
        </p:blipFill>
        <p:spPr>
          <a:xfrm>
            <a:off x="3529080" y="4456080"/>
            <a:ext cx="2305080" cy="749160"/>
          </a:xfrm>
          <a:prstGeom prst="rect">
            <a:avLst/>
          </a:prstGeom>
          <a:ln w="0">
            <a:noFill/>
          </a:ln>
        </p:spPr>
      </p:pic>
      <p:sp>
        <p:nvSpPr>
          <p:cNvPr id="68" name="Straight Connector 10"/>
          <p:cNvSpPr/>
          <p:nvPr/>
        </p:nvSpPr>
        <p:spPr>
          <a:xfrm>
            <a:off x="4392720" y="114480"/>
            <a:ext cx="142920" cy="1730160"/>
          </a:xfrm>
          <a:prstGeom prst="line">
            <a:avLst/>
          </a:prstGeom>
          <a:ln w="1908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3"/>
          <p:cNvSpPr/>
          <p:nvPr/>
        </p:nvSpPr>
        <p:spPr>
          <a:xfrm>
            <a:off x="5867280" y="3860640"/>
            <a:ext cx="1800360" cy="1008360"/>
          </a:xfrm>
          <a:prstGeom prst="line">
            <a:avLst/>
          </a:prstGeom>
          <a:ln w="1908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16"/>
          <p:cNvSpPr/>
          <p:nvPr/>
        </p:nvSpPr>
        <p:spPr>
          <a:xfrm flipH="1">
            <a:off x="1619280" y="3933000"/>
            <a:ext cx="1657440" cy="1150920"/>
          </a:xfrm>
          <a:prstGeom prst="line">
            <a:avLst/>
          </a:prstGeom>
          <a:ln w="1908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Rectangle 24" descr=""/>
          <p:cNvPicPr/>
          <p:nvPr/>
        </p:nvPicPr>
        <p:blipFill>
          <a:blip r:embed="rId5"/>
          <a:stretch/>
        </p:blipFill>
        <p:spPr>
          <a:xfrm>
            <a:off x="1474920" y="1457280"/>
            <a:ext cx="2232000" cy="768240"/>
          </a:xfrm>
          <a:prstGeom prst="rect">
            <a:avLst/>
          </a:prstGeom>
          <a:ln w="0">
            <a:noFill/>
          </a:ln>
        </p:spPr>
      </p:pic>
      <p:pic>
        <p:nvPicPr>
          <p:cNvPr id="72" name="Rectangle 25" descr=""/>
          <p:cNvPicPr/>
          <p:nvPr/>
        </p:nvPicPr>
        <p:blipFill>
          <a:blip r:embed="rId6"/>
          <a:stretch/>
        </p:blipFill>
        <p:spPr>
          <a:xfrm>
            <a:off x="1189080" y="2395440"/>
            <a:ext cx="1944720" cy="768600"/>
          </a:xfrm>
          <a:prstGeom prst="rect">
            <a:avLst/>
          </a:prstGeom>
          <a:ln w="0">
            <a:noFill/>
          </a:ln>
        </p:spPr>
      </p:pic>
      <p:pic>
        <p:nvPicPr>
          <p:cNvPr id="73" name="Rectangle 26" descr=""/>
          <p:cNvPicPr/>
          <p:nvPr/>
        </p:nvPicPr>
        <p:blipFill>
          <a:blip r:embed="rId7"/>
          <a:stretch/>
        </p:blipFill>
        <p:spPr>
          <a:xfrm>
            <a:off x="1042920" y="3475080"/>
            <a:ext cx="2230560" cy="76824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27" descr=""/>
          <p:cNvPicPr/>
          <p:nvPr/>
        </p:nvPicPr>
        <p:blipFill>
          <a:blip r:embed="rId8"/>
          <a:stretch/>
        </p:blipFill>
        <p:spPr>
          <a:xfrm>
            <a:off x="4505400" y="1176480"/>
            <a:ext cx="2413080" cy="76824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28" descr=""/>
          <p:cNvPicPr/>
          <p:nvPr/>
        </p:nvPicPr>
        <p:blipFill>
          <a:blip r:embed="rId9"/>
          <a:stretch/>
        </p:blipFill>
        <p:spPr>
          <a:xfrm>
            <a:off x="5699160" y="2004840"/>
            <a:ext cx="2195640" cy="76860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32" descr=""/>
          <p:cNvPicPr/>
          <p:nvPr/>
        </p:nvPicPr>
        <p:blipFill>
          <a:blip r:embed="rId10"/>
          <a:stretch/>
        </p:blipFill>
        <p:spPr>
          <a:xfrm>
            <a:off x="6029280" y="2798640"/>
            <a:ext cx="2017800" cy="53496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33" descr=""/>
          <p:cNvPicPr/>
          <p:nvPr/>
        </p:nvPicPr>
        <p:blipFill>
          <a:blip r:embed="rId11"/>
          <a:stretch/>
        </p:blipFill>
        <p:spPr>
          <a:xfrm>
            <a:off x="1908000" y="4552920"/>
            <a:ext cx="2017800" cy="76824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34" descr=""/>
          <p:cNvPicPr/>
          <p:nvPr/>
        </p:nvPicPr>
        <p:blipFill>
          <a:blip r:embed="rId12"/>
          <a:stretch/>
        </p:blipFill>
        <p:spPr>
          <a:xfrm>
            <a:off x="4773600" y="5273640"/>
            <a:ext cx="2170080" cy="7668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35" descr=""/>
          <p:cNvPicPr/>
          <p:nvPr/>
        </p:nvPicPr>
        <p:blipFill>
          <a:blip r:embed="rId13"/>
          <a:stretch/>
        </p:blipFill>
        <p:spPr>
          <a:xfrm>
            <a:off x="2481120" y="5273640"/>
            <a:ext cx="2163960" cy="7668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36" descr=""/>
          <p:cNvPicPr/>
          <p:nvPr/>
        </p:nvPicPr>
        <p:blipFill>
          <a:blip r:embed="rId14"/>
          <a:stretch/>
        </p:blipFill>
        <p:spPr>
          <a:xfrm>
            <a:off x="5578560" y="4479840"/>
            <a:ext cx="2017800" cy="76860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37" descr=""/>
          <p:cNvPicPr/>
          <p:nvPr/>
        </p:nvPicPr>
        <p:blipFill>
          <a:blip r:embed="rId15"/>
          <a:stretch/>
        </p:blipFill>
        <p:spPr>
          <a:xfrm>
            <a:off x="3206880" y="2352600"/>
            <a:ext cx="2833560" cy="1743120"/>
          </a:xfrm>
          <a:prstGeom prst="rect">
            <a:avLst/>
          </a:prstGeom>
          <a:ln w="0">
            <a:noFill/>
          </a:ln>
        </p:spPr>
      </p:pic>
      <p:sp>
        <p:nvSpPr>
          <p:cNvPr id="82" name="TextBox 39"/>
          <p:cNvSpPr/>
          <p:nvPr/>
        </p:nvSpPr>
        <p:spPr>
          <a:xfrm>
            <a:off x="6084720" y="616572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opyright © University of Bris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Rectangle 23" descr=""/>
          <p:cNvPicPr/>
          <p:nvPr/>
        </p:nvPicPr>
        <p:blipFill>
          <a:blip r:embed="rId16"/>
          <a:stretch/>
        </p:blipFill>
        <p:spPr>
          <a:xfrm>
            <a:off x="6035760" y="3413160"/>
            <a:ext cx="216360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asurement &amp;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SEM provided main framework for development of questionnaire, alongside poverty measur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l domains are represented, but some more partially than 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sponses need to be combined into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fferent approaches – continuous vs discrete – grouping by judgement/concept vs empirically-driven (e.g. factor analysi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presentation uses discrete/judgement approach, and stays close to BSEM domains – others have explored alternatives (mention brief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ples of Indi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A1 – Material Economic Resources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&lt; median income (AHC)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lacking 3+ necessities (from PSE 25),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lu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indication of subjective poverty (1+ from 5)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indication of problem debt or financial stress (1 of 5) (14.9% of adult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3 - 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Social Resources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ow scores for social support (7 circumstances)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ow number and frequency of contact with relatives/friends (not because don’t want to see them/see them often enough) (12.6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2 –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Social Participation (Activities)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n't do 4+ social activities from list of 9, because can't afford or other constraint reason (e.g. time, childcare) (19.4%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1 –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Health (&amp; Wellbeing)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ntal illness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igh GH Score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general health ‘bad/v bad’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limiting l.t. illness/disab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ealth limited partic (quite) a lot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ONS general life satis &lt;5/10 (17.3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great is the overl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7380360" y="565776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"/>
          <p:cNvPicPr/>
          <p:nvPr/>
        </p:nvPicPr>
        <p:blipFill>
          <a:blip r:embed="rId2"/>
          <a:stretch/>
        </p:blipFill>
        <p:spPr>
          <a:xfrm>
            <a:off x="646200" y="1619280"/>
            <a:ext cx="785160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ments on overl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ession of ‘How much’ overlap depends on approach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- discrete/threshold approach suggests lower than factor analysis of continuous variables appro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ighest ‘overlap’ %  is 37% (Housing &amp; Economic);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- other high overlaps include: Social Activities &amp; Economic (33%); Social Activities &amp; Health (28%); Social Activities &amp; Employment (27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most overlapping domains are Social Activities and Health, followed by Economic and then Housing/Crime/Employmen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omains most associated with ‘Multiple Social Disadvantage’ are Social Activities, Economic and Housing (see next slid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omains least associated with MSD, and least overlapping, are Services and Education (altho’ latter poorly measured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ssociation of Domains with Multiple Social Disadvan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5256000" cy="4762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\\ads\filestore\SPOL\Staff\Poverty &amp; Social Exclusion\Communications - PRels, slides, articles\Logos\PSE logo(s)\PSE Logo.png"/>
          <p:cNvPicPr/>
          <p:nvPr/>
        </p:nvPicPr>
        <p:blipFill>
          <a:blip r:embed="rId2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13:00:53Z</dcterms:created>
  <dc:creator>Nick Bailey</dc:creator>
  <dc:description/>
  <dc:language>en-US</dc:language>
  <cp:lastModifiedBy>User</cp:lastModifiedBy>
  <dcterms:modified xsi:type="dcterms:W3CDTF">2014-08-31T10:23:10Z</dcterms:modified>
  <cp:revision>89</cp:revision>
  <dc:subject/>
  <dc:title>PSE Conference slide</dc:title>
</cp:coreProperties>
</file>