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A8E7-17A5-45C6-B5C7-AC88130364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356E-6D56-4999-A26E-79DA4473DA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5D9F-1D26-402A-B9ED-298D6A350A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8BCD-0EBE-45AE-AC34-B58254FCF9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dotted lines coming to and from accessible rural indicate a lower sample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051B-9FA8-42BF-9FC3-00509491C2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0126-EED9-43AA-9C1F-DD9181CBDF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7BAC-83A3-4DE5-9B2E-8831BE9E8B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E5A2-3972-4AA8-9BB7-DF1C3ED836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C47D-F3D9-4655-8290-68E08281D9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EF60-728D-4EA9-A402-7D0B55FCDB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A0CB-71AE-429B-BD64-F0EF62E923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2B5B-D5CC-418D-930E-542B0B0C60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A937-88FA-4FD7-A419-180AFB1586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E26D-B870-4E5B-8A62-6E6CB8C978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A7DA-0164-4649-9F15-C7EA6134BA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3928-38EF-4AB0-AC7D-0726D57C06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CC5D-0CDE-4724-800F-E09E867D1D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85C1-9598-4708-B148-C26853AC86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EAEA-DC7A-4F77-8DCC-7D95D6B732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980C-A574-492B-A2E9-BF3AFEC97A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DCCD-6487-4D1F-95B5-8575AA4A2B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C270-D9DA-42E9-8AAD-7CF37E254B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F2FD-73ED-44D9-8C89-3DC0FEB34B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FECD-AC41-44F0-A019-049174718A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66B5-84ED-48A4-801D-5A298241C8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F4D3-FB73-4DC5-BDA0-6DE936F55B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47B5-EBA7-4237-B707-ED6ADAE91E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ED9B-9E05-41CE-9D53-BBD2B42540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019F-FB65-4E9F-B2B1-B58E1A29AE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107-0E54-4EC9-812C-7AA4574A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96A-5D9B-487C-82BE-42165967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7AF-7C19-4588-86C0-DC9125CA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2C1-77A9-4765-9F37-4F804E75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DF0-4447-49FC-A2AE-D965BFDC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A67-FAF2-4734-91A7-03CD559F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370-E3C4-44E2-968C-2C06AA3D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867-9F15-4E5B-83FE-51312971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C99-310D-43EC-9162-71719E1C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323-89DB-40CF-8B99-F86B5D21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92A-9F84-48E2-8F29-1252B6CA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690-B138-469E-988D-E4748C4E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4D07-9808-4146-90B0-D64371EEF9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google.co.uk/url?sa=i&amp;rct=j&amp;q=heriot+watt+university+logo&amp;source=images&amp;cd=&amp;cad=rja&amp;docid=7jdV2FIS8mIanM&amp;tbnid=o1OiKfW90EMlhM:&amp;ved=0CAUQjRw&amp;url=http://www.realuniguide.com/university/heriotwattuniversity/&amp;ei=bpTWUbeWGOi_0QXUyYH4Dw&amp;psig=AFQjCNG9EbiZQazB9WUEcMRJmEIeJf1VJg&amp;ust=1373103592808378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overty and social exclusion in urban and rural areas of Scotla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141360"/>
            <a:ext cx="6400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ick Bailey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 Kirsten Besemer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 Glen Bramley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and Maria Ganno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University of Glasg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eriot-Watt Universit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ww.realuniguide.com/wp-content/uploads/2012/10/HeriottWatt_logo.jp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260280"/>
            <a:ext cx="990720" cy="765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SocScibanner_colour"/>
          <p:cNvPicPr/>
          <p:nvPr/>
        </p:nvPicPr>
        <p:blipFill>
          <a:blip r:embed="rId5"/>
          <a:stretch/>
        </p:blipFill>
        <p:spPr>
          <a:xfrm>
            <a:off x="395280" y="549360"/>
            <a:ext cx="28576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income poverty and deprivation rates by urban-rural classification (3-fo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17" name="Content Placeholder 4" descr=""/>
          <p:cNvPicPr/>
          <p:nvPr/>
        </p:nvPicPr>
        <p:blipFill>
          <a:blip r:embed="rId2"/>
          <a:stretch/>
        </p:blipFill>
        <p:spPr>
          <a:xfrm>
            <a:off x="969840" y="1603440"/>
            <a:ext cx="73454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income poverty and deprivation rates by urban-rural classification (6-fo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4" descr=""/>
          <p:cNvPicPr/>
          <p:nvPr/>
        </p:nvPicPr>
        <p:blipFill>
          <a:blip r:embed="rId2"/>
          <a:stretch/>
        </p:blipFill>
        <p:spPr>
          <a:xfrm>
            <a:off x="969840" y="1603440"/>
            <a:ext cx="7716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income poverty and deprivation rates by urban-rural classification (6-f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23" name="Content Placeholder 4" descr=""/>
          <p:cNvPicPr/>
          <p:nvPr/>
        </p:nvPicPr>
        <p:blipFill>
          <a:blip r:embed="rId2"/>
          <a:stretch/>
        </p:blipFill>
        <p:spPr>
          <a:xfrm>
            <a:off x="969840" y="1603440"/>
            <a:ext cx="7716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income poverty and deprivation rates by urban-rural classification (6-f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26" name="Content Placeholder 4" descr=""/>
          <p:cNvPicPr/>
          <p:nvPr/>
        </p:nvPicPr>
        <p:blipFill>
          <a:blip r:embed="rId2"/>
          <a:stretch/>
        </p:blipFill>
        <p:spPr>
          <a:xfrm>
            <a:off x="969840" y="1603440"/>
            <a:ext cx="7716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2.Urban bias in area deprivation indices?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IMD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ome Deprivation do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x indic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portion in receipt of low incom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wer uptake of benefits in rural areas (Naji &amp; Griffiths 1999, Shucksmith et al 1994, 1996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alibri"/>
              </a:rPr>
              <a:t>SIMD Income Deprivation score attached to each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ban bias in area deprivation ind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\\ads\filestore\SPOL\Staff\Poverty &amp; Social Exclusion\Communications - PRels, slides, articles\Logos\PSE logo(s)\PSE Logo.png"/>
          <p:cNvPicPr/>
          <p:nvPr/>
        </p:nvPicPr>
        <p:blipFill>
          <a:blip r:embed="rId2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1116000" y="1773360"/>
          <a:ext cx="6480360" cy="3600360"/>
        </p:xfrm>
        <a:graphic>
          <a:graphicData uri="http://schemas.openxmlformats.org/drawingml/2006/table">
            <a:tbl>
              <a:tblPr/>
              <a:tblGrid>
                <a:gridCol w="2160720"/>
                <a:gridCol w="2158920"/>
                <a:gridCol w="216072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D low income quint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b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st depri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 depri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dult deprivatio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y neighbourhood deprivation and urban-rural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36" name="Content Placeholder 4" descr=""/>
          <p:cNvPicPr/>
          <p:nvPr/>
        </p:nvPicPr>
        <p:blipFill>
          <a:blip r:embed="rId2"/>
          <a:stretch/>
        </p:blipFill>
        <p:spPr>
          <a:xfrm>
            <a:off x="749160" y="1603440"/>
            <a:ext cx="79376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s poverty more spatially concentrated in urban than in rural areas?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39" name="Content Placeholder 7" descr=""/>
          <p:cNvPicPr/>
          <p:nvPr/>
        </p:nvPicPr>
        <p:blipFill>
          <a:blip r:embed="rId2"/>
          <a:stretch/>
        </p:blipFill>
        <p:spPr>
          <a:xfrm>
            <a:off x="1401840" y="1627200"/>
            <a:ext cx="6121440" cy="45291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67640" y="3429000"/>
            <a:ext cx="122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Gini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Urban          0.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Accessible  0.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Remote       0.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 -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overty across the urban-rural spectrum, highest in large urban ar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fferences in poverty levels within rural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ata do not support the idea that low income poverty measures lead to undercounting of rural pover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ata do not support the idea of bias against rural areas in SIMD benefits claimed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overty is not as spatially concentrated in rural ar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mitation on use of SIM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clusion in rural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orer access to employment opport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ow paid employment (seasonal, temporar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sts associated with employ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alibri"/>
              </a:rPr>
              <a:t>PSE data on current labour market status, household work intensity and  employment qua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verty and social exclusion in urban and rural areas of Sco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sistent urban bi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asuring rural poverty (undercount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fferent nature/characteristics of rural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v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o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ral &amp; remote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clusion in rural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mily and social resources, social participation in rural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reater stability, and stronger social connections and sense of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ulture of ‘self-reliance’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alibri"/>
              </a:rPr>
              <a:t>PSE measu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alibri"/>
              </a:rPr>
              <a:t>Perceived levels of social support (7 ques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alibri"/>
              </a:rPr>
              <a:t>Contact with family (2 ques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alibri"/>
              </a:rPr>
              <a:t>Contact with friends (2 ques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alibri"/>
              </a:rPr>
              <a:t>Social activities (13 activiti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social support, contact and participation – urban-rural classification (3-fo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52" name="Content Placeholder 4" descr=""/>
          <p:cNvPicPr/>
          <p:nvPr/>
        </p:nvPicPr>
        <p:blipFill>
          <a:blip r:embed="rId2"/>
          <a:stretch/>
        </p:blipFill>
        <p:spPr>
          <a:xfrm>
            <a:off x="682560" y="1554120"/>
            <a:ext cx="80773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clusion in rural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ccess to services and tran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ublic transport not fit for 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cess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alibri"/>
              </a:rPr>
              <a:t>PSE data on seventeen general services used by the whole population, public and private, and including transport servi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alibri"/>
              </a:rPr>
              <a:t>Combined results for ‘use but inadequate’ with ‘don’t use – inadequate or inaccessible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adequate or inaccessible general services by urban-rural lo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59" name="Chart 4" descr=""/>
          <p:cNvPicPr/>
          <p:nvPr/>
        </p:nvPicPr>
        <p:blipFill>
          <a:blip r:embed="rId2"/>
          <a:stretch/>
        </p:blipFill>
        <p:spPr>
          <a:xfrm>
            <a:off x="676440" y="828720"/>
            <a:ext cx="7718400" cy="5846760"/>
          </a:xfrm>
          <a:prstGeom prst="rect">
            <a:avLst/>
          </a:prstGeom>
          <a:ln w="0">
            <a:noFill/>
          </a:ln>
        </p:spPr>
      </p:pic>
      <p:sp>
        <p:nvSpPr>
          <p:cNvPr id="160" name="Oval 5"/>
          <p:cNvSpPr/>
          <p:nvPr/>
        </p:nvSpPr>
        <p:spPr>
          <a:xfrm>
            <a:off x="900000" y="907920"/>
            <a:ext cx="2159280" cy="64944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1476360" y="3500280"/>
            <a:ext cx="1366920" cy="72072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7"/>
          <p:cNvSpPr/>
          <p:nvPr/>
        </p:nvSpPr>
        <p:spPr>
          <a:xfrm>
            <a:off x="684360" y="2133720"/>
            <a:ext cx="2232000" cy="35856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adequate or inaccessible general services by urban-rural lo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5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66" name="Chart 4" descr=""/>
          <p:cNvPicPr/>
          <p:nvPr/>
        </p:nvPicPr>
        <p:blipFill>
          <a:blip r:embed="rId2"/>
          <a:stretch/>
        </p:blipFill>
        <p:spPr>
          <a:xfrm>
            <a:off x="963720" y="828720"/>
            <a:ext cx="7576920" cy="5632560"/>
          </a:xfrm>
          <a:prstGeom prst="rect">
            <a:avLst/>
          </a:prstGeom>
          <a:ln w="0">
            <a:noFill/>
          </a:ln>
        </p:spPr>
      </p:pic>
      <p:sp>
        <p:nvSpPr>
          <p:cNvPr id="167" name="Oval 7"/>
          <p:cNvSpPr/>
          <p:nvPr/>
        </p:nvSpPr>
        <p:spPr>
          <a:xfrm>
            <a:off x="1979640" y="3141720"/>
            <a:ext cx="1008000" cy="35856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2340000" y="1557360"/>
            <a:ext cx="792000" cy="21600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1476360" y="4221000"/>
            <a:ext cx="1655640" cy="43200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1332000" y="2852640"/>
            <a:ext cx="1944720" cy="43200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1187280" y="4797360"/>
            <a:ext cx="2089440" cy="36036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clusion in rural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4360" y="1341360"/>
            <a:ext cx="77752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iving environ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using (affordability, supply and quali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neighbourhood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33cc"/>
                </a:solidFill>
                <a:latin typeface="Calibri"/>
              </a:rPr>
              <a:t>PSE da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33cc"/>
                </a:solidFill>
                <a:latin typeface="Calibri"/>
              </a:rPr>
              <a:t>Satisfaction with housing (1 ques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33cc"/>
                </a:solidFill>
                <a:latin typeface="Calibri"/>
              </a:rPr>
              <a:t>Housing quali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476"/>
              </a:spcBef>
              <a:buClr>
                <a:srgbClr val="ff33cc"/>
              </a:buClr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33cc"/>
                </a:solidFill>
                <a:latin typeface="Calibri"/>
              </a:rPr>
              <a:t>Home in poor repair (score out of 8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476"/>
              </a:spcBef>
              <a:buClr>
                <a:srgbClr val="ff33cc"/>
              </a:buClr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33cc"/>
                </a:solidFill>
                <a:latin typeface="Calibri"/>
              </a:rPr>
              <a:t>Home too cold last winter (1 questio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33cc"/>
                </a:solidFill>
                <a:latin typeface="Calibri"/>
              </a:rPr>
              <a:t>Neighbourhood environme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cc"/>
                </a:solidFill>
                <a:latin typeface="Calibri"/>
              </a:rPr>
              <a:t>Social problems (score out of 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cc"/>
                </a:solidFill>
                <a:latin typeface="Calibri"/>
              </a:rPr>
              <a:t>Noise/pollution/traffic (score out of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cc"/>
                </a:solidFill>
                <a:latin typeface="Calibri"/>
              </a:rPr>
              <a:t>Lighting, pavements, open spaces etc (score out of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sing and neighbourhood ratings by urban-rural categ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4284720" y="1628640"/>
            <a:ext cx="3166920" cy="453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5"/>
          <p:cNvSpPr/>
          <p:nvPr/>
        </p:nvSpPr>
        <p:spPr>
          <a:xfrm>
            <a:off x="2576520" y="3976560"/>
            <a:ext cx="2033640" cy="2206800"/>
          </a:xfrm>
          <a:custGeom>
            <a:avLst/>
            <a:gdLst/>
            <a:ahLst/>
            <a:rect l="l" t="t" r="r" b="b"/>
            <a:pathLst>
              <a:path w="2032986" h="2206589">
                <a:moveTo>
                  <a:pt x="1796004" y="150192"/>
                </a:moveTo>
                <a:lnTo>
                  <a:pt x="1796004" y="150192"/>
                </a:lnTo>
                <a:cubicBezTo>
                  <a:pt x="1753019" y="158007"/>
                  <a:pt x="1708964" y="161310"/>
                  <a:pt x="1667050" y="173638"/>
                </a:cubicBezTo>
                <a:cubicBezTo>
                  <a:pt x="1641901" y="181035"/>
                  <a:pt x="1621050" y="199071"/>
                  <a:pt x="1596711" y="208807"/>
                </a:cubicBezTo>
                <a:cubicBezTo>
                  <a:pt x="1581752" y="214791"/>
                  <a:pt x="1565450" y="216623"/>
                  <a:pt x="1549819" y="220531"/>
                </a:cubicBezTo>
                <a:cubicBezTo>
                  <a:pt x="1534188" y="240069"/>
                  <a:pt x="1519835" y="260702"/>
                  <a:pt x="1502927" y="279146"/>
                </a:cubicBezTo>
                <a:cubicBezTo>
                  <a:pt x="1476787" y="307662"/>
                  <a:pt x="1420865" y="361207"/>
                  <a:pt x="1420865" y="361207"/>
                </a:cubicBezTo>
                <a:cubicBezTo>
                  <a:pt x="1393987" y="441845"/>
                  <a:pt x="1430750" y="343909"/>
                  <a:pt x="1373973" y="443269"/>
                </a:cubicBezTo>
                <a:cubicBezTo>
                  <a:pt x="1367842" y="453998"/>
                  <a:pt x="1368381" y="467709"/>
                  <a:pt x="1362250" y="478438"/>
                </a:cubicBezTo>
                <a:cubicBezTo>
                  <a:pt x="1352556" y="495402"/>
                  <a:pt x="1336775" y="508367"/>
                  <a:pt x="1327081" y="525331"/>
                </a:cubicBezTo>
                <a:cubicBezTo>
                  <a:pt x="1305405" y="563264"/>
                  <a:pt x="1292699" y="606209"/>
                  <a:pt x="1268465" y="642561"/>
                </a:cubicBezTo>
                <a:cubicBezTo>
                  <a:pt x="1260650" y="654284"/>
                  <a:pt x="1251320" y="665129"/>
                  <a:pt x="1245019" y="677731"/>
                </a:cubicBezTo>
                <a:cubicBezTo>
                  <a:pt x="1235608" y="696553"/>
                  <a:pt x="1230984" y="717524"/>
                  <a:pt x="1221573" y="736346"/>
                </a:cubicBezTo>
                <a:cubicBezTo>
                  <a:pt x="1215272" y="748948"/>
                  <a:pt x="1203849" y="758640"/>
                  <a:pt x="1198127" y="771515"/>
                </a:cubicBezTo>
                <a:cubicBezTo>
                  <a:pt x="1155022" y="868503"/>
                  <a:pt x="1199386" y="817150"/>
                  <a:pt x="1151234" y="865300"/>
                </a:cubicBezTo>
                <a:cubicBezTo>
                  <a:pt x="1147326" y="880931"/>
                  <a:pt x="1145858" y="897383"/>
                  <a:pt x="1139511" y="912192"/>
                </a:cubicBezTo>
                <a:cubicBezTo>
                  <a:pt x="1122375" y="952177"/>
                  <a:pt x="1107781" y="947964"/>
                  <a:pt x="1080896" y="982531"/>
                </a:cubicBezTo>
                <a:cubicBezTo>
                  <a:pt x="1063596" y="1004774"/>
                  <a:pt x="1049635" y="1029423"/>
                  <a:pt x="1034004" y="1052869"/>
                </a:cubicBezTo>
                <a:lnTo>
                  <a:pt x="1010558" y="1088038"/>
                </a:lnTo>
                <a:cubicBezTo>
                  <a:pt x="1000864" y="1102579"/>
                  <a:pt x="998299" y="1121506"/>
                  <a:pt x="987111" y="1134931"/>
                </a:cubicBezTo>
                <a:cubicBezTo>
                  <a:pt x="978091" y="1145755"/>
                  <a:pt x="963665" y="1150562"/>
                  <a:pt x="951942" y="1158377"/>
                </a:cubicBezTo>
                <a:cubicBezTo>
                  <a:pt x="939651" y="1195249"/>
                  <a:pt x="942684" y="1203625"/>
                  <a:pt x="905050" y="1228715"/>
                </a:cubicBezTo>
                <a:cubicBezTo>
                  <a:pt x="894768" y="1235570"/>
                  <a:pt x="881604" y="1236530"/>
                  <a:pt x="869881" y="1240438"/>
                </a:cubicBezTo>
                <a:cubicBezTo>
                  <a:pt x="854250" y="1256069"/>
                  <a:pt x="843959" y="1280341"/>
                  <a:pt x="822988" y="1287331"/>
                </a:cubicBezTo>
                <a:lnTo>
                  <a:pt x="752650" y="1310777"/>
                </a:lnTo>
                <a:cubicBezTo>
                  <a:pt x="740927" y="1318592"/>
                  <a:pt x="730356" y="1328501"/>
                  <a:pt x="717481" y="1334223"/>
                </a:cubicBezTo>
                <a:cubicBezTo>
                  <a:pt x="694897" y="1344260"/>
                  <a:pt x="647142" y="1357669"/>
                  <a:pt x="647142" y="1357669"/>
                </a:cubicBezTo>
                <a:lnTo>
                  <a:pt x="576804" y="1404561"/>
                </a:lnTo>
                <a:cubicBezTo>
                  <a:pt x="563398" y="1413498"/>
                  <a:pt x="571428" y="1436645"/>
                  <a:pt x="565081" y="1451454"/>
                </a:cubicBezTo>
                <a:cubicBezTo>
                  <a:pt x="559531" y="1464404"/>
                  <a:pt x="549450" y="1474900"/>
                  <a:pt x="541634" y="1486623"/>
                </a:cubicBezTo>
                <a:cubicBezTo>
                  <a:pt x="521000" y="1548525"/>
                  <a:pt x="536765" y="1511510"/>
                  <a:pt x="483019" y="1592131"/>
                </a:cubicBezTo>
                <a:cubicBezTo>
                  <a:pt x="476165" y="1602413"/>
                  <a:pt x="480034" y="1618562"/>
                  <a:pt x="471296" y="1627300"/>
                </a:cubicBezTo>
                <a:cubicBezTo>
                  <a:pt x="451371" y="1647225"/>
                  <a:pt x="420884" y="1654267"/>
                  <a:pt x="400958" y="1674192"/>
                </a:cubicBezTo>
                <a:cubicBezTo>
                  <a:pt x="349879" y="1725269"/>
                  <a:pt x="384143" y="1688796"/>
                  <a:pt x="307173" y="1791423"/>
                </a:cubicBezTo>
                <a:cubicBezTo>
                  <a:pt x="299759" y="1801309"/>
                  <a:pt x="283362" y="1798278"/>
                  <a:pt x="272004" y="1803146"/>
                </a:cubicBezTo>
                <a:cubicBezTo>
                  <a:pt x="255941" y="1810030"/>
                  <a:pt x="240284" y="1817922"/>
                  <a:pt x="225111" y="1826592"/>
                </a:cubicBezTo>
                <a:cubicBezTo>
                  <a:pt x="90898" y="1903284"/>
                  <a:pt x="300217" y="1788242"/>
                  <a:pt x="154773" y="1885207"/>
                </a:cubicBezTo>
                <a:cubicBezTo>
                  <a:pt x="144491" y="1892062"/>
                  <a:pt x="130657" y="1891405"/>
                  <a:pt x="119604" y="1896931"/>
                </a:cubicBezTo>
                <a:cubicBezTo>
                  <a:pt x="93255" y="1910106"/>
                  <a:pt x="67786" y="1933321"/>
                  <a:pt x="49265" y="1955546"/>
                </a:cubicBezTo>
                <a:cubicBezTo>
                  <a:pt x="40245" y="1966370"/>
                  <a:pt x="33634" y="1978992"/>
                  <a:pt x="25819" y="1990715"/>
                </a:cubicBezTo>
                <a:cubicBezTo>
                  <a:pt x="24719" y="1999515"/>
                  <a:pt x="0" y="2105573"/>
                  <a:pt x="25819" y="2131392"/>
                </a:cubicBezTo>
                <a:cubicBezTo>
                  <a:pt x="37212" y="2142785"/>
                  <a:pt x="57625" y="2137458"/>
                  <a:pt x="72711" y="2143115"/>
                </a:cubicBezTo>
                <a:cubicBezTo>
                  <a:pt x="89074" y="2149251"/>
                  <a:pt x="103241" y="2160425"/>
                  <a:pt x="119604" y="2166561"/>
                </a:cubicBezTo>
                <a:cubicBezTo>
                  <a:pt x="134690" y="2172218"/>
                  <a:pt x="151004" y="2173858"/>
                  <a:pt x="166496" y="2178284"/>
                </a:cubicBezTo>
                <a:cubicBezTo>
                  <a:pt x="178378" y="2181679"/>
                  <a:pt x="189942" y="2186099"/>
                  <a:pt x="201665" y="2190007"/>
                </a:cubicBezTo>
                <a:cubicBezTo>
                  <a:pt x="377511" y="2186099"/>
                  <a:pt x="553618" y="2188613"/>
                  <a:pt x="729204" y="2178284"/>
                </a:cubicBezTo>
                <a:cubicBezTo>
                  <a:pt x="753876" y="2176833"/>
                  <a:pt x="776096" y="2162653"/>
                  <a:pt x="799542" y="2154838"/>
                </a:cubicBezTo>
                <a:cubicBezTo>
                  <a:pt x="974214" y="2096614"/>
                  <a:pt x="649814" y="2206589"/>
                  <a:pt x="881604" y="2119669"/>
                </a:cubicBezTo>
                <a:cubicBezTo>
                  <a:pt x="896690" y="2114012"/>
                  <a:pt x="913004" y="2112372"/>
                  <a:pt x="928496" y="2107946"/>
                </a:cubicBezTo>
                <a:cubicBezTo>
                  <a:pt x="940378" y="2104551"/>
                  <a:pt x="951783" y="2099618"/>
                  <a:pt x="963665" y="2096223"/>
                </a:cubicBezTo>
                <a:cubicBezTo>
                  <a:pt x="979157" y="2091797"/>
                  <a:pt x="995066" y="2088926"/>
                  <a:pt x="1010558" y="2084500"/>
                </a:cubicBezTo>
                <a:cubicBezTo>
                  <a:pt x="1022440" y="2081105"/>
                  <a:pt x="1033845" y="2076172"/>
                  <a:pt x="1045727" y="2072777"/>
                </a:cubicBezTo>
                <a:cubicBezTo>
                  <a:pt x="1148767" y="2043337"/>
                  <a:pt x="1043465" y="2077439"/>
                  <a:pt x="1127788" y="2049331"/>
                </a:cubicBezTo>
                <a:cubicBezTo>
                  <a:pt x="1174977" y="2002140"/>
                  <a:pt x="1122508" y="2046569"/>
                  <a:pt x="1198127" y="2014161"/>
                </a:cubicBezTo>
                <a:cubicBezTo>
                  <a:pt x="1211077" y="2008611"/>
                  <a:pt x="1220104" y="1995662"/>
                  <a:pt x="1233296" y="1990715"/>
                </a:cubicBezTo>
                <a:cubicBezTo>
                  <a:pt x="1251953" y="1983719"/>
                  <a:pt x="1272688" y="1984235"/>
                  <a:pt x="1291911" y="1978992"/>
                </a:cubicBezTo>
                <a:cubicBezTo>
                  <a:pt x="1315755" y="1972489"/>
                  <a:pt x="1362250" y="1955546"/>
                  <a:pt x="1362250" y="1955546"/>
                </a:cubicBezTo>
                <a:cubicBezTo>
                  <a:pt x="1385696" y="1939915"/>
                  <a:pt x="1405855" y="1917565"/>
                  <a:pt x="1432588" y="1908654"/>
                </a:cubicBezTo>
                <a:cubicBezTo>
                  <a:pt x="1588550" y="1856666"/>
                  <a:pt x="1525312" y="1873749"/>
                  <a:pt x="1620158" y="1850038"/>
                </a:cubicBezTo>
                <a:cubicBezTo>
                  <a:pt x="1682916" y="1808199"/>
                  <a:pt x="1645364" y="1836555"/>
                  <a:pt x="1725665" y="1756254"/>
                </a:cubicBezTo>
                <a:cubicBezTo>
                  <a:pt x="1735628" y="1746291"/>
                  <a:pt x="1749832" y="1741609"/>
                  <a:pt x="1760834" y="1732807"/>
                </a:cubicBezTo>
                <a:cubicBezTo>
                  <a:pt x="1769465" y="1725902"/>
                  <a:pt x="1776465" y="1717176"/>
                  <a:pt x="1784281" y="1709361"/>
                </a:cubicBezTo>
                <a:cubicBezTo>
                  <a:pt x="1792096" y="1693730"/>
                  <a:pt x="1798736" y="1677454"/>
                  <a:pt x="1807727" y="1662469"/>
                </a:cubicBezTo>
                <a:cubicBezTo>
                  <a:pt x="1822225" y="1638306"/>
                  <a:pt x="1854619" y="1592131"/>
                  <a:pt x="1854619" y="1592131"/>
                </a:cubicBezTo>
                <a:cubicBezTo>
                  <a:pt x="1858527" y="1568685"/>
                  <a:pt x="1855712" y="1543052"/>
                  <a:pt x="1866342" y="1521792"/>
                </a:cubicBezTo>
                <a:cubicBezTo>
                  <a:pt x="1872643" y="1509190"/>
                  <a:pt x="1891548" y="1508309"/>
                  <a:pt x="1901511" y="1498346"/>
                </a:cubicBezTo>
                <a:cubicBezTo>
                  <a:pt x="1911474" y="1488383"/>
                  <a:pt x="1917142" y="1474900"/>
                  <a:pt x="1924958" y="1463177"/>
                </a:cubicBezTo>
                <a:cubicBezTo>
                  <a:pt x="1956353" y="1368991"/>
                  <a:pt x="1950823" y="1393767"/>
                  <a:pt x="1960127" y="1216992"/>
                </a:cubicBezTo>
                <a:cubicBezTo>
                  <a:pt x="1988444" y="678960"/>
                  <a:pt x="1933165" y="914531"/>
                  <a:pt x="1983573" y="712900"/>
                </a:cubicBezTo>
                <a:cubicBezTo>
                  <a:pt x="1979665" y="494069"/>
                  <a:pt x="2032986" y="266561"/>
                  <a:pt x="1971850" y="56407"/>
                </a:cubicBezTo>
                <a:cubicBezTo>
                  <a:pt x="1955441" y="0"/>
                  <a:pt x="1853188" y="54676"/>
                  <a:pt x="1796004" y="68131"/>
                </a:cubicBezTo>
                <a:cubicBezTo>
                  <a:pt x="1763888" y="75688"/>
                  <a:pt x="1796004" y="136515"/>
                  <a:pt x="1796004" y="150192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clusion in rural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alth and well-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eater sense of community and support vs. iso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vironmental benefits (green spa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cc"/>
                </a:solidFill>
                <a:latin typeface="Calibri"/>
              </a:rPr>
              <a:t>PSE meas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cc"/>
                </a:solidFill>
                <a:latin typeface="Calibri"/>
              </a:rPr>
              <a:t>Subjective well-being (3 ques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cc"/>
                </a:solidFill>
                <a:latin typeface="Calibri"/>
              </a:rPr>
              <a:t>General h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cc"/>
                </a:solidFill>
                <a:latin typeface="Calibri"/>
              </a:rPr>
              <a:t>Limiting health problem or dis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asure of health and well-being by urban-rural classifi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4500720" y="1628640"/>
            <a:ext cx="266364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140360" y="4797360"/>
            <a:ext cx="1008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asure of health and well-being by urban-rural classifi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ural poverty – do we have an accurate pictu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2205000"/>
            <a:ext cx="40417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ts val="2874"/>
              </a:lnSpc>
              <a:buClr>
                <a:srgbClr val="ff33cc"/>
              </a:buClr>
              <a:buFont typeface="Calibri"/>
              <a:buAutoNum type="arabicPeriod"/>
            </a:pPr>
            <a:r>
              <a:rPr b="0" lang="en-GB" sz="2400" spc="-1" strike="noStrike">
                <a:solidFill>
                  <a:srgbClr val="ff33cc"/>
                </a:solidFill>
                <a:latin typeface="Calibri"/>
              </a:rPr>
              <a:t>Low income BHC vs. AH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ts val="2874"/>
              </a:lnSpc>
              <a:buClr>
                <a:srgbClr val="ff33cc"/>
              </a:buClr>
              <a:buFont typeface="Calibri"/>
              <a:buAutoNum type="arabicPeriod"/>
            </a:pPr>
            <a:r>
              <a:rPr b="0" lang="en-GB" sz="2400" spc="-1" strike="noStrike">
                <a:solidFill>
                  <a:srgbClr val="ff33cc"/>
                </a:solidFill>
                <a:latin typeface="Calibri"/>
              </a:rPr>
              <a:t>Low income vs. dep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alibri"/>
              </a:rPr>
              <a:t>Low income and deprivation measures vs. SIMD Income Deprivation s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150"/>
              </a:spcBef>
              <a:tabLst>
                <a:tab algn="l" pos="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23640" y="2133720"/>
            <a:ext cx="4173480" cy="42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low income measures undercount rural poverty due to hidden costs of liv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SIMD area deprivation measures based on benefits /tax credits claimed undercount rural pover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 –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84360" y="1268280"/>
            <a:ext cx="77752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clusion across urban-rural spectrum - similarities much greater than differences over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terms of difference, varied pictu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cc"/>
                </a:solidFill>
                <a:latin typeface="Calibri"/>
              </a:rPr>
              <a:t>No differenc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– Employment, social support &amp; participation, hou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cc"/>
                </a:solidFill>
                <a:latin typeface="Calibri"/>
              </a:rPr>
              <a:t>Better in rural area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– Economic resources, health &amp; well-being, nhd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cc"/>
                </a:solidFill>
                <a:latin typeface="Calibri"/>
              </a:rPr>
              <a:t>Worse in rural area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– Access to (certain) public services, public trans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oad conclus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ution against overstating urban-rural dif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ces within non-urban categories, especially ‘remote rur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verty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Subtitle 2" descr=""/>
          <p:cNvPicPr/>
          <p:nvPr/>
        </p:nvPicPr>
        <p:blipFill>
          <a:blip r:embed="rId1"/>
          <a:stretch/>
        </p:blipFill>
        <p:spPr>
          <a:xfrm>
            <a:off x="585720" y="1579680"/>
            <a:ext cx="7875720" cy="388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\\ads\filestore\SPOL\Staff\Poverty &amp; Social Exclusion\Communications - PRels, slides, articles\Logos\PSE logo(s)\PSE Logo.png"/>
          <p:cNvPicPr/>
          <p:nvPr/>
        </p:nvPicPr>
        <p:blipFill>
          <a:blip r:embed="rId2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3"/>
          <p:cNvSpPr/>
          <p:nvPr/>
        </p:nvSpPr>
        <p:spPr>
          <a:xfrm>
            <a:off x="900000" y="114480"/>
            <a:ext cx="6985080" cy="6308640"/>
          </a:xfrm>
          <a:prstGeom prst="ellipse">
            <a:avLst/>
          </a:prstGeom>
          <a:solidFill>
            <a:srgbClr val="ecf1f8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Oval 4"/>
          <p:cNvGrpSpPr/>
          <p:nvPr/>
        </p:nvGrpSpPr>
        <p:grpSpPr>
          <a:xfrm>
            <a:off x="3029040" y="1816200"/>
            <a:ext cx="3011400" cy="2792160"/>
            <a:chOff x="3029040" y="1816200"/>
            <a:chExt cx="3011400" cy="2792160"/>
          </a:xfrm>
        </p:grpSpPr>
        <p:pic>
          <p:nvPicPr>
            <p:cNvPr id="68" name="Oval 4" descr=""/>
            <p:cNvPicPr/>
            <p:nvPr/>
          </p:nvPicPr>
          <p:blipFill>
            <a:blip r:embed="rId1"/>
            <a:stretch/>
          </p:blipFill>
          <p:spPr>
            <a:xfrm>
              <a:off x="3029040" y="1816200"/>
              <a:ext cx="301140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492360" y="2246400"/>
              <a:ext cx="2087640" cy="19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" name="Rectangle 6" descr=""/>
          <p:cNvPicPr/>
          <p:nvPr/>
        </p:nvPicPr>
        <p:blipFill>
          <a:blip r:embed="rId2"/>
          <a:stretch/>
        </p:blipFill>
        <p:spPr>
          <a:xfrm>
            <a:off x="2084400" y="781200"/>
            <a:ext cx="2494080" cy="74916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7" descr=""/>
          <p:cNvPicPr/>
          <p:nvPr/>
        </p:nvPicPr>
        <p:blipFill>
          <a:blip r:embed="rId3"/>
          <a:stretch/>
        </p:blipFill>
        <p:spPr>
          <a:xfrm>
            <a:off x="4627440" y="731880"/>
            <a:ext cx="1906560" cy="74916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8" descr=""/>
          <p:cNvPicPr/>
          <p:nvPr/>
        </p:nvPicPr>
        <p:blipFill>
          <a:blip r:embed="rId4"/>
          <a:stretch/>
        </p:blipFill>
        <p:spPr>
          <a:xfrm>
            <a:off x="3529080" y="4456080"/>
            <a:ext cx="2305080" cy="749160"/>
          </a:xfrm>
          <a:prstGeom prst="rect">
            <a:avLst/>
          </a:prstGeom>
          <a:ln w="0">
            <a:noFill/>
          </a:ln>
        </p:spPr>
      </p:pic>
      <p:sp>
        <p:nvSpPr>
          <p:cNvPr id="73" name="Straight Connector 10"/>
          <p:cNvSpPr/>
          <p:nvPr/>
        </p:nvSpPr>
        <p:spPr>
          <a:xfrm>
            <a:off x="4392720" y="114480"/>
            <a:ext cx="142920" cy="173016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13"/>
          <p:cNvSpPr/>
          <p:nvPr/>
        </p:nvSpPr>
        <p:spPr>
          <a:xfrm>
            <a:off x="5867280" y="3860640"/>
            <a:ext cx="1800360" cy="100836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16"/>
          <p:cNvSpPr/>
          <p:nvPr/>
        </p:nvSpPr>
        <p:spPr>
          <a:xfrm flipH="1">
            <a:off x="1619280" y="3933000"/>
            <a:ext cx="1657440" cy="115092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tangle 24" descr=""/>
          <p:cNvPicPr/>
          <p:nvPr/>
        </p:nvPicPr>
        <p:blipFill>
          <a:blip r:embed="rId5"/>
          <a:stretch/>
        </p:blipFill>
        <p:spPr>
          <a:xfrm>
            <a:off x="1474920" y="1457280"/>
            <a:ext cx="2232000" cy="76824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25" descr=""/>
          <p:cNvPicPr/>
          <p:nvPr/>
        </p:nvPicPr>
        <p:blipFill>
          <a:blip r:embed="rId6"/>
          <a:stretch/>
        </p:blipFill>
        <p:spPr>
          <a:xfrm>
            <a:off x="1189080" y="2395440"/>
            <a:ext cx="1944720" cy="76860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26" descr=""/>
          <p:cNvPicPr/>
          <p:nvPr/>
        </p:nvPicPr>
        <p:blipFill>
          <a:blip r:embed="rId7"/>
          <a:stretch/>
        </p:blipFill>
        <p:spPr>
          <a:xfrm>
            <a:off x="1042920" y="3475080"/>
            <a:ext cx="2230560" cy="76824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27" descr=""/>
          <p:cNvPicPr/>
          <p:nvPr/>
        </p:nvPicPr>
        <p:blipFill>
          <a:blip r:embed="rId8"/>
          <a:stretch/>
        </p:blipFill>
        <p:spPr>
          <a:xfrm>
            <a:off x="4505400" y="1176480"/>
            <a:ext cx="2413080" cy="76824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28" descr=""/>
          <p:cNvPicPr/>
          <p:nvPr/>
        </p:nvPicPr>
        <p:blipFill>
          <a:blip r:embed="rId9"/>
          <a:stretch/>
        </p:blipFill>
        <p:spPr>
          <a:xfrm>
            <a:off x="5699160" y="2004840"/>
            <a:ext cx="2195640" cy="76860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32" descr=""/>
          <p:cNvPicPr/>
          <p:nvPr/>
        </p:nvPicPr>
        <p:blipFill>
          <a:blip r:embed="rId10"/>
          <a:stretch/>
        </p:blipFill>
        <p:spPr>
          <a:xfrm>
            <a:off x="6029280" y="2798640"/>
            <a:ext cx="2017800" cy="53496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33" descr=""/>
          <p:cNvPicPr/>
          <p:nvPr/>
        </p:nvPicPr>
        <p:blipFill>
          <a:blip r:embed="rId11"/>
          <a:stretch/>
        </p:blipFill>
        <p:spPr>
          <a:xfrm>
            <a:off x="1908000" y="4552920"/>
            <a:ext cx="2017800" cy="76824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34" descr=""/>
          <p:cNvPicPr/>
          <p:nvPr/>
        </p:nvPicPr>
        <p:blipFill>
          <a:blip r:embed="rId12"/>
          <a:stretch/>
        </p:blipFill>
        <p:spPr>
          <a:xfrm>
            <a:off x="4773600" y="5273640"/>
            <a:ext cx="2170080" cy="76680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35" descr=""/>
          <p:cNvPicPr/>
          <p:nvPr/>
        </p:nvPicPr>
        <p:blipFill>
          <a:blip r:embed="rId13"/>
          <a:stretch/>
        </p:blipFill>
        <p:spPr>
          <a:xfrm>
            <a:off x="2481120" y="5273640"/>
            <a:ext cx="2163960" cy="7668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6" descr=""/>
          <p:cNvPicPr/>
          <p:nvPr/>
        </p:nvPicPr>
        <p:blipFill>
          <a:blip r:embed="rId14"/>
          <a:stretch/>
        </p:blipFill>
        <p:spPr>
          <a:xfrm>
            <a:off x="5578560" y="4479840"/>
            <a:ext cx="2017800" cy="7686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37" descr=""/>
          <p:cNvPicPr/>
          <p:nvPr/>
        </p:nvPicPr>
        <p:blipFill>
          <a:blip r:embed="rId15"/>
          <a:stretch/>
        </p:blipFill>
        <p:spPr>
          <a:xfrm>
            <a:off x="3206880" y="2352600"/>
            <a:ext cx="2833560" cy="1743120"/>
          </a:xfrm>
          <a:prstGeom prst="rect">
            <a:avLst/>
          </a:prstGeom>
          <a:ln w="0">
            <a:noFill/>
          </a:ln>
        </p:spPr>
      </p:pic>
      <p:sp>
        <p:nvSpPr>
          <p:cNvPr id="87" name="TextBox 39"/>
          <p:cNvSpPr/>
          <p:nvPr/>
        </p:nvSpPr>
        <p:spPr>
          <a:xfrm>
            <a:off x="6084720" y="616572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pyright © University of Brist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Rectangle 23" descr=""/>
          <p:cNvPicPr/>
          <p:nvPr/>
        </p:nvPicPr>
        <p:blipFill>
          <a:blip r:embed="rId16"/>
          <a:stretch/>
        </p:blipFill>
        <p:spPr>
          <a:xfrm>
            <a:off x="6035760" y="3413160"/>
            <a:ext cx="2163600" cy="536400"/>
          </a:xfrm>
          <a:prstGeom prst="rect">
            <a:avLst/>
          </a:prstGeom>
          <a:ln w="0">
            <a:noFill/>
          </a:ln>
        </p:spPr>
      </p:pic>
      <p:sp>
        <p:nvSpPr>
          <p:cNvPr id="89" name="Oval 43"/>
          <p:cNvSpPr/>
          <p:nvPr/>
        </p:nvSpPr>
        <p:spPr>
          <a:xfrm>
            <a:off x="1835280" y="1413000"/>
            <a:ext cx="1584360" cy="86364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44"/>
          <p:cNvSpPr/>
          <p:nvPr/>
        </p:nvSpPr>
        <p:spPr>
          <a:xfrm>
            <a:off x="1403280" y="2421000"/>
            <a:ext cx="1584360" cy="79200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45"/>
          <p:cNvSpPr/>
          <p:nvPr/>
        </p:nvSpPr>
        <p:spPr>
          <a:xfrm>
            <a:off x="2124000" y="4581360"/>
            <a:ext cx="1584360" cy="71928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46"/>
          <p:cNvSpPr/>
          <p:nvPr/>
        </p:nvSpPr>
        <p:spPr>
          <a:xfrm>
            <a:off x="5867280" y="4508640"/>
            <a:ext cx="1513080" cy="86508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6084720" y="2781360"/>
            <a:ext cx="2159280" cy="64764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48"/>
          <p:cNvSpPr/>
          <p:nvPr/>
        </p:nvSpPr>
        <p:spPr>
          <a:xfrm>
            <a:off x="5724360" y="1989000"/>
            <a:ext cx="2160720" cy="71928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rban-rural classification for Scotland – 3 &amp; 6 f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\\ads\filestore\SPOL\Staff\Poverty &amp; Social Exclusion\Communications - PRels, slides, articles\Logos\PSE logo(s)\PSE Logo.png"/>
          <p:cNvPicPr/>
          <p:nvPr/>
        </p:nvPicPr>
        <p:blipFill>
          <a:blip r:embed="rId2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95280" y="2133720"/>
          <a:ext cx="4032360" cy="3598920"/>
        </p:xfrm>
        <a:graphic>
          <a:graphicData uri="http://schemas.openxmlformats.org/drawingml/2006/table">
            <a:tbl>
              <a:tblPr/>
              <a:tblGrid>
                <a:gridCol w="2016000"/>
                <a:gridCol w="1081080"/>
                <a:gridCol w="935280"/>
              </a:tblGrid>
              <a:tr h="50940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680" marR="3168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hare of 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of s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Large Urban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680" marR="3168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Other Urban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680" marR="3168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28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Accessible Small Tow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680" marR="3168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Accessible R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680" marR="3168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Remote Small Tow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680" marR="3168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 Remote R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680" marR="3168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680" marR="3168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299,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4788000" y="1268280"/>
            <a:ext cx="368136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Oval 8"/>
          <p:cNvSpPr/>
          <p:nvPr/>
        </p:nvSpPr>
        <p:spPr>
          <a:xfrm>
            <a:off x="2627280" y="4437000"/>
            <a:ext cx="649440" cy="86364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3635280" y="4437000"/>
            <a:ext cx="649440" cy="86364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2771640" y="3933720"/>
            <a:ext cx="1440000" cy="50328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2"/>
          <p:cNvSpPr/>
          <p:nvPr/>
        </p:nvSpPr>
        <p:spPr>
          <a:xfrm>
            <a:off x="395280" y="3573360"/>
            <a:ext cx="40323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4"/>
          <p:cNvSpPr/>
          <p:nvPr/>
        </p:nvSpPr>
        <p:spPr>
          <a:xfrm>
            <a:off x="395280" y="4437000"/>
            <a:ext cx="40323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income poverty and deprivation rates by urban-rural classification (3-fo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4" descr=""/>
          <p:cNvPicPr/>
          <p:nvPr/>
        </p:nvPicPr>
        <p:blipFill>
          <a:blip r:embed="rId2"/>
          <a:stretch/>
        </p:blipFill>
        <p:spPr>
          <a:xfrm>
            <a:off x="969840" y="1603440"/>
            <a:ext cx="73454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income poverty and deprivation rates by urban-rural classification (3-fo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11" name="Content Placeholder 4" descr=""/>
          <p:cNvPicPr/>
          <p:nvPr/>
        </p:nvPicPr>
        <p:blipFill>
          <a:blip r:embed="rId2"/>
          <a:stretch/>
        </p:blipFill>
        <p:spPr>
          <a:xfrm>
            <a:off x="969840" y="1603440"/>
            <a:ext cx="73454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income poverty and deprivation rates by urban-rural classification (3-fo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14" name="Content Placeholder 4" descr=""/>
          <p:cNvPicPr/>
          <p:nvPr/>
        </p:nvPicPr>
        <p:blipFill>
          <a:blip r:embed="rId2"/>
          <a:stretch/>
        </p:blipFill>
        <p:spPr>
          <a:xfrm>
            <a:off x="969840" y="1603440"/>
            <a:ext cx="73454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12:25:13Z</dcterms:created>
  <dc:creator>Maria Gannon</dc:creator>
  <dc:description/>
  <dc:language>en-US</dc:language>
  <cp:lastModifiedBy>User</cp:lastModifiedBy>
  <dcterms:modified xsi:type="dcterms:W3CDTF">2014-08-31T10:07:31Z</dcterms:modified>
  <cp:revision>241</cp:revision>
  <dc:subject/>
  <dc:title>PSE Conference slide</dc:title>
</cp:coreProperties>
</file>